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70.png" ContentType="image/png"/>
  <Override PartName="/ppt/media/image28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7EE9-91BA-4F33-BD7C-AFB03DFD59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523E-5987-4B3B-BBAC-10DEA69AB0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E85-9B86-4BA0-9C39-BEDFD1FF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DE0-A903-491C-B8FB-193FD386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E0D-1DEF-4ED9-B24C-86001308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297-451C-420E-8ABA-8D34E96A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D163-561A-4328-930F-DC2968D5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D4E-7670-4EB4-876D-989D6227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7D7-8828-4A34-8B52-27CF8CCE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209-7CF0-49E7-ADF4-E2741BAB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E43-8DB5-4FC2-B04E-2734F149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372-642C-4900-9D0B-832C96BC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0CA-F0F1-4DAE-9DA8-78BA6B0B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418-15BD-4804-8532-45E41DAA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B803-A98D-404E-A8D1-1D07C2E9F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8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25.png"/><Relationship Id="rId7" Type="http://schemas.openxmlformats.org/officeDocument/2006/relationships/image" Target="../media/image13.png"/><Relationship Id="rId8" Type="http://schemas.openxmlformats.org/officeDocument/2006/relationships/image" Target="../media/image26.png"/><Relationship Id="rId9" Type="http://schemas.openxmlformats.org/officeDocument/2006/relationships/image" Target="../media/image67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image" Target="../media/image12.png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image" Target="../media/image14.png"/><Relationship Id="rId16" Type="http://schemas.openxmlformats.org/officeDocument/2006/relationships/image" Target="../media/image70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71.png"/><Relationship Id="rId4" Type="http://schemas.openxmlformats.org/officeDocument/2006/relationships/image" Target="../media/image43.png"/><Relationship Id="rId5" Type="http://schemas.openxmlformats.org/officeDocument/2006/relationships/image" Target="../media/image72.png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image" Target="../media/image73.png"/><Relationship Id="rId9" Type="http://schemas.openxmlformats.org/officeDocument/2006/relationships/image" Target="../media/image74.png"/><Relationship Id="rId10" Type="http://schemas.openxmlformats.org/officeDocument/2006/relationships/image" Target="../media/image75.png"/><Relationship Id="rId11" Type="http://schemas.openxmlformats.org/officeDocument/2006/relationships/image" Target="../media/image14.png"/><Relationship Id="rId12" Type="http://schemas.openxmlformats.org/officeDocument/2006/relationships/image" Target="../media/image26.png"/><Relationship Id="rId13" Type="http://schemas.openxmlformats.org/officeDocument/2006/relationships/image" Target="../media/image25.png"/><Relationship Id="rId14" Type="http://schemas.openxmlformats.org/officeDocument/2006/relationships/image" Target="../media/image37.png"/><Relationship Id="rId15" Type="http://schemas.openxmlformats.org/officeDocument/2006/relationships/image" Target="../media/image13.png"/><Relationship Id="rId16" Type="http://schemas.openxmlformats.org/officeDocument/2006/relationships/image" Target="../media/image76.png"/><Relationship Id="rId17" Type="http://schemas.openxmlformats.org/officeDocument/2006/relationships/image" Target="../media/image49.png"/><Relationship Id="rId18" Type="http://schemas.openxmlformats.org/officeDocument/2006/relationships/image" Target="../media/image50.png"/><Relationship Id="rId19" Type="http://schemas.openxmlformats.org/officeDocument/2006/relationships/image" Target="../media/image51.pn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7.png"/><Relationship Id="rId6" Type="http://schemas.openxmlformats.org/officeDocument/2006/relationships/image" Target="../media/image10.png"/><Relationship Id="rId7" Type="http://schemas.openxmlformats.org/officeDocument/2006/relationships/image" Target="../media/image78.png"/><Relationship Id="rId8" Type="http://schemas.openxmlformats.org/officeDocument/2006/relationships/image" Target="../media/image12.png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79.png"/><Relationship Id="rId14" Type="http://schemas.openxmlformats.org/officeDocument/2006/relationships/image" Target="../media/image80.png"/><Relationship Id="rId15" Type="http://schemas.openxmlformats.org/officeDocument/2006/relationships/image" Target="../media/image81.png"/><Relationship Id="rId16" Type="http://schemas.openxmlformats.org/officeDocument/2006/relationships/image" Target="../media/image82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10.png"/><Relationship Id="rId6" Type="http://schemas.openxmlformats.org/officeDocument/2006/relationships/image" Target="../media/image86.png"/><Relationship Id="rId7" Type="http://schemas.openxmlformats.org/officeDocument/2006/relationships/image" Target="../media/image87.png"/><Relationship Id="rId8" Type="http://schemas.openxmlformats.org/officeDocument/2006/relationships/image" Target="../media/image88.png"/><Relationship Id="rId9" Type="http://schemas.openxmlformats.org/officeDocument/2006/relationships/image" Target="../media/image89.png"/><Relationship Id="rId10" Type="http://schemas.openxmlformats.org/officeDocument/2006/relationships/image" Target="../media/image7.png"/><Relationship Id="rId11" Type="http://schemas.openxmlformats.org/officeDocument/2006/relationships/image" Target="../media/image37.png"/><Relationship Id="rId12" Type="http://schemas.openxmlformats.org/officeDocument/2006/relationships/image" Target="../media/image13.png"/><Relationship Id="rId13" Type="http://schemas.openxmlformats.org/officeDocument/2006/relationships/image" Target="../media/image90.png"/><Relationship Id="rId14" Type="http://schemas.openxmlformats.org/officeDocument/2006/relationships/image" Target="../media/image13.png"/><Relationship Id="rId15" Type="http://schemas.openxmlformats.org/officeDocument/2006/relationships/slide" Target="slide15.xml"/><Relationship Id="rId16" Type="http://schemas.openxmlformats.org/officeDocument/2006/relationships/image" Target="../media/image91.png"/><Relationship Id="rId17" Type="http://schemas.openxmlformats.org/officeDocument/2006/relationships/image" Target="../media/image49.png"/><Relationship Id="rId18" Type="http://schemas.openxmlformats.org/officeDocument/2006/relationships/image" Target="../media/image50.png"/><Relationship Id="rId19" Type="http://schemas.openxmlformats.org/officeDocument/2006/relationships/image" Target="../media/image51.png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046.radikal.ru/0805/3e/dcd0e688db78t.jpg" TargetMode="External"/><Relationship Id="rId3" Type="http://schemas.openxmlformats.org/officeDocument/2006/relationships/hyperlink" Target="http://radikal.ru/F/i046.radikal.ru/0805/1d/553b7ae1e0b1.png.html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13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12.png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image" Target="../media/image14.png"/><Relationship Id="rId15" Type="http://schemas.openxmlformats.org/officeDocument/2006/relationships/image" Target="../media/image30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10.png"/><Relationship Id="rId6" Type="http://schemas.openxmlformats.org/officeDocument/2006/relationships/slide" Target="slide5.xml"/><Relationship Id="rId7" Type="http://schemas.openxmlformats.org/officeDocument/2006/relationships/slide" Target="slide7.xml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14.png"/><Relationship Id="rId12" Type="http://schemas.openxmlformats.org/officeDocument/2006/relationships/image" Target="../media/image7.png"/><Relationship Id="rId13" Type="http://schemas.openxmlformats.org/officeDocument/2006/relationships/image" Target="../media/image37.png"/><Relationship Id="rId14" Type="http://schemas.openxmlformats.org/officeDocument/2006/relationships/image" Target="../media/image13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14.png"/><Relationship Id="rId11" Type="http://schemas.openxmlformats.org/officeDocument/2006/relationships/image" Target="../media/image26.png"/><Relationship Id="rId12" Type="http://schemas.openxmlformats.org/officeDocument/2006/relationships/image" Target="../media/image25.png"/><Relationship Id="rId13" Type="http://schemas.openxmlformats.org/officeDocument/2006/relationships/image" Target="../media/image37.png"/><Relationship Id="rId14" Type="http://schemas.openxmlformats.org/officeDocument/2006/relationships/image" Target="../media/image13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2.png"/><Relationship Id="rId5" Type="http://schemas.openxmlformats.org/officeDocument/2006/relationships/image" Target="../media/image10.png"/><Relationship Id="rId6" Type="http://schemas.openxmlformats.org/officeDocument/2006/relationships/image" Target="../media/image53.png"/><Relationship Id="rId7" Type="http://schemas.openxmlformats.org/officeDocument/2006/relationships/image" Target="../media/image12.png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54.png"/><Relationship Id="rId13" Type="http://schemas.openxmlformats.org/officeDocument/2006/relationships/image" Target="../media/image55.png"/><Relationship Id="rId14" Type="http://schemas.openxmlformats.org/officeDocument/2006/relationships/image" Target="../media/image56.png"/><Relationship Id="rId15" Type="http://schemas.openxmlformats.org/officeDocument/2006/relationships/image" Target="../media/image57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2.png"/><Relationship Id="rId4" Type="http://schemas.openxmlformats.org/officeDocument/2006/relationships/image" Target="../media/image58.png"/><Relationship Id="rId5" Type="http://schemas.openxmlformats.org/officeDocument/2006/relationships/image" Target="../media/image10.png"/><Relationship Id="rId6" Type="http://schemas.openxmlformats.org/officeDocument/2006/relationships/image" Target="../media/image59.png"/><Relationship Id="rId7" Type="http://schemas.openxmlformats.org/officeDocument/2006/relationships/image" Target="../media/image12.png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онтроль и обобщение знаний по теме «Написание безударной гласной в корне слов»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клас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Скругленный прямоугольник 1" descr=""/>
          <p:cNvPicPr/>
          <p:nvPr/>
        </p:nvPicPr>
        <p:blipFill>
          <a:blip r:embed="rId3"/>
          <a:stretch/>
        </p:blipFill>
        <p:spPr>
          <a:xfrm>
            <a:off x="798480" y="60480"/>
            <a:ext cx="1706760" cy="993600"/>
          </a:xfrm>
          <a:prstGeom prst="rect">
            <a:avLst/>
          </a:prstGeom>
          <a:ln w="0">
            <a:noFill/>
          </a:ln>
        </p:spPr>
      </p:pic>
      <p:pic>
        <p:nvPicPr>
          <p:cNvPr id="191" name="Скругленный прямоугольник 2" descr=""/>
          <p:cNvPicPr/>
          <p:nvPr/>
        </p:nvPicPr>
        <p:blipFill>
          <a:blip r:embed="rId4"/>
          <a:stretch/>
        </p:blipFill>
        <p:spPr>
          <a:xfrm>
            <a:off x="2457360" y="171360"/>
            <a:ext cx="6491520" cy="846360"/>
          </a:xfrm>
          <a:prstGeom prst="rect">
            <a:avLst/>
          </a:prstGeom>
          <a:ln w="0">
            <a:noFill/>
          </a:ln>
        </p:spPr>
      </p:pic>
      <p:pic>
        <p:nvPicPr>
          <p:cNvPr id="192" name="Блок-схема: процесс 3" descr=""/>
          <p:cNvPicPr/>
          <p:nvPr/>
        </p:nvPicPr>
        <p:blipFill>
          <a:blip r:embed="rId5"/>
          <a:stretch/>
        </p:blipFill>
        <p:spPr>
          <a:xfrm>
            <a:off x="2365200" y="1036800"/>
            <a:ext cx="2121120" cy="761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:\Documents and Settings\User\Рабочий стол\ТРИГГЕРЫ\Овчинникова\МК  4\1.png"/>
          <p:cNvPicPr/>
          <p:nvPr/>
        </p:nvPicPr>
        <p:blipFill>
          <a:blip r:embed="rId6"/>
          <a:stretch/>
        </p:blipFill>
        <p:spPr>
          <a:xfrm>
            <a:off x="285840" y="3429000"/>
            <a:ext cx="2111400" cy="2916360"/>
          </a:xfrm>
          <a:prstGeom prst="rect">
            <a:avLst/>
          </a:prstGeom>
          <a:ln w="0">
            <a:noFill/>
          </a:ln>
        </p:spPr>
      </p:pic>
      <p:pic>
        <p:nvPicPr>
          <p:cNvPr id="194" name="апп.mp3" descr=""/>
          <p:cNvPicPr/>
          <p:nvPr/>
        </p:nvPicPr>
        <p:blipFill>
          <a:blip r:embed="rId7"/>
          <a:stretch/>
        </p:blipFill>
        <p:spPr>
          <a:xfrm>
            <a:off x="-500040" y="4000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:\Documents and Settings\User\Рабочий стол\ТРИГГЕРЫ\Овчинникова\МК  4\4.png"/>
          <p:cNvPicPr/>
          <p:nvPr/>
        </p:nvPicPr>
        <p:blipFill>
          <a:blip r:embed="rId8"/>
          <a:stretch/>
        </p:blipFill>
        <p:spPr>
          <a:xfrm>
            <a:off x="6740640" y="3643200"/>
            <a:ext cx="1689120" cy="2990880"/>
          </a:xfrm>
          <a:prstGeom prst="rect">
            <a:avLst/>
          </a:prstGeom>
          <a:ln w="0">
            <a:noFill/>
          </a:ln>
        </p:spPr>
      </p:pic>
      <p:pic>
        <p:nvPicPr>
          <p:cNvPr id="196" name="Блок-схема: процесс 5" descr=""/>
          <p:cNvPicPr/>
          <p:nvPr/>
        </p:nvPicPr>
        <p:blipFill>
          <a:blip r:embed="rId9"/>
          <a:stretch/>
        </p:blipFill>
        <p:spPr>
          <a:xfrm>
            <a:off x="4511520" y="1036800"/>
            <a:ext cx="2114640" cy="761760"/>
          </a:xfrm>
          <a:prstGeom prst="rect">
            <a:avLst/>
          </a:prstGeom>
          <a:ln w="0">
            <a:noFill/>
          </a:ln>
        </p:spPr>
      </p:pic>
      <p:pic>
        <p:nvPicPr>
          <p:cNvPr id="197" name="Блок-схема: процесс 4" descr=""/>
          <p:cNvPicPr/>
          <p:nvPr/>
        </p:nvPicPr>
        <p:blipFill>
          <a:blip r:embed="rId10"/>
          <a:stretch/>
        </p:blipFill>
        <p:spPr>
          <a:xfrm>
            <a:off x="6724800" y="1036800"/>
            <a:ext cx="2114280" cy="761760"/>
          </a:xfrm>
          <a:prstGeom prst="rect">
            <a:avLst/>
          </a:prstGeom>
          <a:ln w="0">
            <a:noFill/>
          </a:ln>
        </p:spPr>
      </p:pic>
      <p:pic>
        <p:nvPicPr>
          <p:cNvPr id="198" name="Блок-схема: процесс 6" descr=""/>
          <p:cNvPicPr/>
          <p:nvPr/>
        </p:nvPicPr>
        <p:blipFill>
          <a:blip r:embed="rId11"/>
          <a:stretch/>
        </p:blipFill>
        <p:spPr>
          <a:xfrm>
            <a:off x="225360" y="1036800"/>
            <a:ext cx="2116080" cy="761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Documents and Settings\User\Рабочий стол\ТРИГГЕРЫ\Овчинникова\МК  4\мяч.png"/>
          <p:cNvPicPr/>
          <p:nvPr/>
        </p:nvPicPr>
        <p:blipFill>
          <a:blip r:embed="rId12"/>
          <a:stretch/>
        </p:blipFill>
        <p:spPr>
          <a:xfrm>
            <a:off x="2286000" y="4214880"/>
            <a:ext cx="795240" cy="804960"/>
          </a:xfrm>
          <a:prstGeom prst="rect">
            <a:avLst/>
          </a:prstGeom>
          <a:ln w="0">
            <a:noFill/>
          </a:ln>
        </p:spPr>
      </p:pic>
      <p:sp>
        <p:nvSpPr>
          <p:cNvPr id="200" name="Блок-схема: знак завершения 12">
            <a:hlinkClick r:id="rId13" action="ppaction://hlinksldjump"/>
          </p:cNvPr>
          <p:cNvSpPr/>
          <p:nvPr/>
        </p:nvSpPr>
        <p:spPr>
          <a:xfrm>
            <a:off x="4014720" y="6286680"/>
            <a:ext cx="1343160" cy="357120"/>
          </a:xfrm>
          <a:prstGeom prst="flowChartTerminator">
            <a:avLst/>
          </a:prstGeom>
          <a:solidFill>
            <a:srgbClr val="ffcc66"/>
          </a:solidFill>
          <a:ln w="25560">
            <a:solidFill>
              <a:srgbClr val="e46c0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3" descr="C:\Documents and Settings\User\Рабочий стол\ТРИГГЕРЫ\Овчинникова\МК  4\сетка.png"/>
          <p:cNvPicPr/>
          <p:nvPr/>
        </p:nvPicPr>
        <p:blipFill>
          <a:blip r:embed="rId15"/>
          <a:stretch/>
        </p:blipFill>
        <p:spPr>
          <a:xfrm>
            <a:off x="3700440" y="3060720"/>
            <a:ext cx="1596960" cy="3821040"/>
          </a:xfrm>
          <a:prstGeom prst="rect">
            <a:avLst/>
          </a:prstGeom>
          <a:ln w="0">
            <a:noFill/>
          </a:ln>
        </p:spPr>
      </p:pic>
      <p:pic>
        <p:nvPicPr>
          <p:cNvPr id="202" name="Скругленный прямоугольник 15" descr=""/>
          <p:cNvPicPr/>
          <p:nvPr/>
        </p:nvPicPr>
        <p:blipFill>
          <a:blip r:embed="rId16"/>
          <a:stretch/>
        </p:blipFill>
        <p:spPr>
          <a:xfrm>
            <a:off x="19080" y="55440"/>
            <a:ext cx="1047600" cy="955800"/>
          </a:xfrm>
          <a:prstGeom prst="rect">
            <a:avLst/>
          </a:prstGeom>
          <a:ln w="0">
            <a:noFill/>
          </a:ln>
        </p:spPr>
      </p:pic>
      <p:grpSp>
        <p:nvGrpSpPr>
          <p:cNvPr id="203" name="Овал 16"/>
          <p:cNvGrpSpPr/>
          <p:nvPr/>
        </p:nvGrpSpPr>
        <p:grpSpPr>
          <a:xfrm>
            <a:off x="55440" y="1841400"/>
            <a:ext cx="596880" cy="596880"/>
            <a:chOff x="55440" y="1841400"/>
            <a:chExt cx="596880" cy="596880"/>
          </a:xfrm>
        </p:grpSpPr>
        <p:pic>
          <p:nvPicPr>
            <p:cNvPr id="204" name="Овал 16" descr=""/>
            <p:cNvPicPr/>
            <p:nvPr/>
          </p:nvPicPr>
          <p:blipFill>
            <a:blip r:embed="rId17"/>
            <a:stretch/>
          </p:blipFill>
          <p:spPr>
            <a:xfrm>
              <a:off x="55440" y="184140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55600" y="20415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Овал 17"/>
          <p:cNvGrpSpPr/>
          <p:nvPr/>
        </p:nvGrpSpPr>
        <p:grpSpPr>
          <a:xfrm>
            <a:off x="55440" y="2341440"/>
            <a:ext cx="596880" cy="596880"/>
            <a:chOff x="55440" y="2341440"/>
            <a:chExt cx="596880" cy="596880"/>
          </a:xfrm>
        </p:grpSpPr>
        <p:pic>
          <p:nvPicPr>
            <p:cNvPr id="207" name="Овал 17" descr=""/>
            <p:cNvPicPr/>
            <p:nvPr/>
          </p:nvPicPr>
          <p:blipFill>
            <a:blip r:embed="rId18"/>
            <a:stretch/>
          </p:blipFill>
          <p:spPr>
            <a:xfrm>
              <a:off x="55440" y="234144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55600" y="25416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Овал 18"/>
          <p:cNvGrpSpPr/>
          <p:nvPr/>
        </p:nvGrpSpPr>
        <p:grpSpPr>
          <a:xfrm>
            <a:off x="55440" y="2914560"/>
            <a:ext cx="596880" cy="596880"/>
            <a:chOff x="55440" y="2914560"/>
            <a:chExt cx="596880" cy="596880"/>
          </a:xfrm>
        </p:grpSpPr>
        <p:pic>
          <p:nvPicPr>
            <p:cNvPr id="210" name="Овал 18" descr=""/>
            <p:cNvPicPr/>
            <p:nvPr/>
          </p:nvPicPr>
          <p:blipFill>
            <a:blip r:embed="rId19"/>
            <a:stretch/>
          </p:blipFill>
          <p:spPr>
            <a:xfrm>
              <a:off x="55440" y="291456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55600" y="31129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9" dur="indefinite" restart="never" nodeType="tmRoot">
          <p:childTnLst>
            <p:seq>
              <p:cTn id="56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6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84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7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014E-007 C 0.00295 -0.00648 0.01337 -0.01295 0.01702 -0.01295 C 0.04028 -0.01295 0.06407 0.0895 0.06407 0.19195 C 0.06407 0.14015 0.07604 0.0895 0.08733 0.0895 C 0.09931 0.0895 0.11059 0.14107 0.11059 0.19195 C 0.11059 0.16628 0.1165 0.14015 0.1224 0.14015 C 0.12848 0.14015 0.13438 0.16559 0.13438 0.19195 C 0.13438 0.17877 0.13733 0.16628 0.14028 0.16628 C 0.14341 0.16628 0.14636 0.17946 0.14636 0.19195 C 0.14636 0.18524 0.14792 0.17877 0.14931 0.17877 C 0.15 0.17877 0.15226 0.18524 0.15226 0.19195 C 0.15226 0.18848 0.15313 0.18524 0.15382 0.18524 C 0.15382 0.18617 0.15538 0.18848 0.15538 0.19195 C 0.15538 0.1901 0.15538 0.18848 0.15625 0.18848 C 0.15625 0.18941 0.15695 0.19033 0.15695 0.19195 C 0.15695 0.19103 0.15695 0.1901 0.15695 0.18941 C 0.15782 0.18941 0.15782 0.19033 0.15782 0.19103 C 0.15851 0.19103 0.15851 0.19033 0.15851 0.18941 C 0.15938 0.18941 0.15938 0.19033 0.15938 0.19103 E">
                                      <p:cBhvr>
                                        <p:cTn id="59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96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5904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-0.02359 L 0.04514 -0.11008 E">
                                      <p:cBhvr>
                                        <p:cTn id="601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97 -0.12442 L -0.00104 -0.01295 E">
                                      <p:cBhvr>
                                        <p:cTn id="603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9722E-006 L 0.08211 -0.14848 C 0.0993 -0.18155 0.12812 -0.20329 0.15937 -0.20907 C 0.19548 -0.21554 0.22586 -0.20444 0.24896 -0.17854 L 0.35902 -0.06522 E">
                                      <p:cBhvr>
                                        <p:cTn id="605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629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2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625 C 0.004 -0.01388 0.01806 -0.02128 0.02292 -0.02128 C 0.054 -0.02128 0.08594 0.0969 0.08594 0.21507 C 0.08594 0.15541 0.10191 0.0969 0.11702 0.0969 C 0.13299 0.0969 0.14809 0.15633 0.14809 0.21507 C 0.14809 0.18547 0.15608 0.15541 0.16407 0.15541 C 0.17205 0.15541 0.18004 0.18478 0.18004 0.21507 C 0.18004 0.19981 0.18403 0.18547 0.18802 0.18547 C 0.19202 0.18547 0.19601 0.20074 0.19601 0.21507 C 0.19601 0.20744 0.19809 0.19981 0.2 0.19981 C 0.20104 0.19981 0.204 0.20744 0.204 0.21507 C 0.204 0.21114 0.20504 0.20744 0.20608 0.20744 C 0.20608 0.20837 0.20816 0.21114 0.20816 0.21507 C 0.20816 0.21299 0.20816 0.21114 0.2092 0.21114 C 0.2092 0.21207 0.21025 0.21322 0.21025 0.21507 C 0.21025 0.21392 0.21025 0.21299 0.21025 0.21207 C 0.21129 0.21207 0.21129 0.21322 0.21129 0.21415 C 0.21233 0.21415 0.21233 0.21322 0.21233 0.21207 C 0.21337 0.21207 0.21337 0.21322 0.21337 0.21415 E">
                                      <p:cBhvr>
                                        <p:cTn id="636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41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4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833 C 0.004 -0.01481 0.01806 -0.02128 0.02292 -0.02128 C 0.054 -0.02128 0.08594 0.08117 0.08594 0.18362 C 0.08594 0.13182 0.10191 0.08117 0.11702 0.08117 C 0.13299 0.08117 0.14809 0.13274 0.14809 0.18362 C 0.14809 0.15795 0.15608 0.13182 0.16407 0.13182 C 0.17205 0.13182 0.18004 0.15726 0.18004 0.18362 C 0.18004 0.17044 0.18403 0.15795 0.18802 0.15795 C 0.19202 0.15795 0.19601 0.17113 0.19601 0.18362 C 0.19601 0.17691 0.19809 0.17044 0.2 0.17044 C 0.20104 0.17044 0.204 0.17691 0.204 0.18362 C 0.204 0.18015 0.20504 0.17691 0.20608 0.17691 C 0.20608 0.17784 0.20816 0.18015 0.20816 0.18362 C 0.20816 0.18177 0.20816 0.18015 0.2092 0.18015 C 0.2092 0.18108 0.21025 0.182 0.21025 0.18362 C 0.21025 0.1827 0.21025 0.18177 0.21025 0.18108 C 0.21129 0.18108 0.21129 0.182 0.21129 0.1827 C 0.21233 0.1827 0.21233 0.182 0.21233 0.18108 C 0.21337 0.18108 0.21337 0.182 0.21337 0.1827 E">
                                      <p:cBhvr>
                                        <p:cTn id="648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Блок-схема: процесс 1" descr=""/>
          <p:cNvPicPr/>
          <p:nvPr/>
        </p:nvPicPr>
        <p:blipFill>
          <a:blip r:embed="rId3"/>
          <a:stretch/>
        </p:blipFill>
        <p:spPr>
          <a:xfrm>
            <a:off x="6645240" y="1036800"/>
            <a:ext cx="226692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Скругленный прямоугольник 2" descr=""/>
          <p:cNvPicPr/>
          <p:nvPr/>
        </p:nvPicPr>
        <p:blipFill>
          <a:blip r:embed="rId4"/>
          <a:stretch/>
        </p:blipFill>
        <p:spPr>
          <a:xfrm>
            <a:off x="7186680" y="60480"/>
            <a:ext cx="1708200" cy="993600"/>
          </a:xfrm>
          <a:prstGeom prst="rect">
            <a:avLst/>
          </a:prstGeom>
          <a:ln w="0">
            <a:noFill/>
          </a:ln>
        </p:spPr>
      </p:pic>
      <p:pic>
        <p:nvPicPr>
          <p:cNvPr id="215" name="Скругленный прямоугольник 3" descr=""/>
          <p:cNvPicPr/>
          <p:nvPr/>
        </p:nvPicPr>
        <p:blipFill>
          <a:blip r:embed="rId5"/>
          <a:stretch/>
        </p:blipFill>
        <p:spPr>
          <a:xfrm>
            <a:off x="957240" y="171360"/>
            <a:ext cx="6278760" cy="846360"/>
          </a:xfrm>
          <a:prstGeom prst="rect">
            <a:avLst/>
          </a:prstGeom>
          <a:ln w="0">
            <a:noFill/>
          </a:ln>
        </p:spPr>
      </p:pic>
      <p:sp>
        <p:nvSpPr>
          <p:cNvPr id="216" name="Блок-схема: знак завершения 4">
            <a:hlinkClick r:id="rId6" action="ppaction://hlinksldjump"/>
          </p:cNvPr>
          <p:cNvSpPr/>
          <p:nvPr/>
        </p:nvSpPr>
        <p:spPr>
          <a:xfrm>
            <a:off x="4071960" y="6286680"/>
            <a:ext cx="1343160" cy="357120"/>
          </a:xfrm>
          <a:prstGeom prst="flowChartTerminator">
            <a:avLst/>
          </a:prstGeom>
          <a:solidFill>
            <a:srgbClr val="ffcc66"/>
          </a:solidFill>
          <a:ln w="25560">
            <a:solidFill>
              <a:srgbClr val="e46c0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Блок-схема: процесс 5" descr=""/>
          <p:cNvPicPr/>
          <p:nvPr/>
        </p:nvPicPr>
        <p:blipFill>
          <a:blip r:embed="rId8"/>
          <a:stretch/>
        </p:blipFill>
        <p:spPr>
          <a:xfrm>
            <a:off x="4511520" y="1036800"/>
            <a:ext cx="2114640" cy="761760"/>
          </a:xfrm>
          <a:prstGeom prst="rect">
            <a:avLst/>
          </a:prstGeom>
          <a:ln w="0">
            <a:noFill/>
          </a:ln>
        </p:spPr>
      </p:pic>
      <p:pic>
        <p:nvPicPr>
          <p:cNvPr id="218" name="Блок-схема: процесс 6" descr=""/>
          <p:cNvPicPr/>
          <p:nvPr/>
        </p:nvPicPr>
        <p:blipFill>
          <a:blip r:embed="rId9"/>
          <a:stretch/>
        </p:blipFill>
        <p:spPr>
          <a:xfrm>
            <a:off x="225360" y="1036800"/>
            <a:ext cx="2116080" cy="761760"/>
          </a:xfrm>
          <a:prstGeom prst="rect">
            <a:avLst/>
          </a:prstGeom>
          <a:ln w="0">
            <a:noFill/>
          </a:ln>
        </p:spPr>
      </p:pic>
      <p:pic>
        <p:nvPicPr>
          <p:cNvPr id="219" name="Блок-схема: процесс 7" descr=""/>
          <p:cNvPicPr/>
          <p:nvPr/>
        </p:nvPicPr>
        <p:blipFill>
          <a:blip r:embed="rId10"/>
          <a:stretch/>
        </p:blipFill>
        <p:spPr>
          <a:xfrm>
            <a:off x="2365200" y="1036800"/>
            <a:ext cx="2109960" cy="761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3" descr="C:\Documents and Settings\User\Рабочий стол\ТРИГГЕРЫ\Овчинникова\МК  4\сетка.png"/>
          <p:cNvPicPr/>
          <p:nvPr/>
        </p:nvPicPr>
        <p:blipFill>
          <a:blip r:embed="rId11"/>
          <a:stretch/>
        </p:blipFill>
        <p:spPr>
          <a:xfrm>
            <a:off x="3700440" y="3060720"/>
            <a:ext cx="1596960" cy="3821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C:\Documents and Settings\User\Рабочий стол\ТРИГГЕРЫ\Овчинникова\МК  4\4.png"/>
          <p:cNvPicPr/>
          <p:nvPr/>
        </p:nvPicPr>
        <p:blipFill>
          <a:blip r:embed="rId12"/>
          <a:stretch/>
        </p:blipFill>
        <p:spPr>
          <a:xfrm>
            <a:off x="6954840" y="3643200"/>
            <a:ext cx="1689120" cy="2990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C:\Documents and Settings\User\Рабочий стол\ТРИГГЕРЫ\Овчинникова\МК  4\1.png"/>
          <p:cNvPicPr/>
          <p:nvPr/>
        </p:nvPicPr>
        <p:blipFill>
          <a:blip r:embed="rId13"/>
          <a:stretch/>
        </p:blipFill>
        <p:spPr>
          <a:xfrm>
            <a:off x="285840" y="3429000"/>
            <a:ext cx="2111400" cy="2916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Documents and Settings\User\Рабочий стол\ТРИГГЕРЫ\Овчинникова\МК  4\мяч.png"/>
          <p:cNvPicPr/>
          <p:nvPr/>
        </p:nvPicPr>
        <p:blipFill>
          <a:blip r:embed="rId14"/>
          <a:stretch/>
        </p:blipFill>
        <p:spPr>
          <a:xfrm rot="6252600">
            <a:off x="5948280" y="3582720"/>
            <a:ext cx="795240" cy="804960"/>
          </a:xfrm>
          <a:prstGeom prst="rect">
            <a:avLst/>
          </a:prstGeom>
          <a:ln w="0">
            <a:noFill/>
          </a:ln>
        </p:spPr>
      </p:pic>
      <p:pic>
        <p:nvPicPr>
          <p:cNvPr id="224" name="апп.mp3" descr=""/>
          <p:cNvPicPr/>
          <p:nvPr/>
        </p:nvPicPr>
        <p:blipFill>
          <a:blip r:embed="rId15"/>
          <a:stretch/>
        </p:blipFill>
        <p:spPr>
          <a:xfrm>
            <a:off x="9358200" y="471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5" name="Скругленный прямоугольник 14" descr=""/>
          <p:cNvPicPr/>
          <p:nvPr/>
        </p:nvPicPr>
        <p:blipFill>
          <a:blip r:embed="rId16"/>
          <a:stretch/>
        </p:blipFill>
        <p:spPr>
          <a:xfrm>
            <a:off x="0" y="42840"/>
            <a:ext cx="1042920" cy="968400"/>
          </a:xfrm>
          <a:prstGeom prst="rect">
            <a:avLst/>
          </a:prstGeom>
          <a:ln w="0">
            <a:noFill/>
          </a:ln>
        </p:spPr>
      </p:pic>
      <p:grpSp>
        <p:nvGrpSpPr>
          <p:cNvPr id="226" name="Овал 15"/>
          <p:cNvGrpSpPr/>
          <p:nvPr/>
        </p:nvGrpSpPr>
        <p:grpSpPr>
          <a:xfrm>
            <a:off x="8345520" y="1841400"/>
            <a:ext cx="590400" cy="596880"/>
            <a:chOff x="8345520" y="1841400"/>
            <a:chExt cx="590400" cy="596880"/>
          </a:xfrm>
        </p:grpSpPr>
        <p:pic>
          <p:nvPicPr>
            <p:cNvPr id="227" name="Овал 15" descr=""/>
            <p:cNvPicPr/>
            <p:nvPr/>
          </p:nvPicPr>
          <p:blipFill>
            <a:blip r:embed="rId17"/>
            <a:stretch/>
          </p:blipFill>
          <p:spPr>
            <a:xfrm>
              <a:off x="8345520" y="1841400"/>
              <a:ext cx="590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542440" y="20415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Овал 16"/>
          <p:cNvGrpSpPr/>
          <p:nvPr/>
        </p:nvGrpSpPr>
        <p:grpSpPr>
          <a:xfrm>
            <a:off x="8345520" y="2341440"/>
            <a:ext cx="590400" cy="596880"/>
            <a:chOff x="8345520" y="2341440"/>
            <a:chExt cx="590400" cy="596880"/>
          </a:xfrm>
        </p:grpSpPr>
        <p:pic>
          <p:nvPicPr>
            <p:cNvPr id="230" name="Овал 16" descr=""/>
            <p:cNvPicPr/>
            <p:nvPr/>
          </p:nvPicPr>
          <p:blipFill>
            <a:blip r:embed="rId18"/>
            <a:stretch/>
          </p:blipFill>
          <p:spPr>
            <a:xfrm>
              <a:off x="8345520" y="2341440"/>
              <a:ext cx="590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8542440" y="25416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Овал 17"/>
          <p:cNvGrpSpPr/>
          <p:nvPr/>
        </p:nvGrpSpPr>
        <p:grpSpPr>
          <a:xfrm>
            <a:off x="8345520" y="2914560"/>
            <a:ext cx="590400" cy="596880"/>
            <a:chOff x="8345520" y="2914560"/>
            <a:chExt cx="590400" cy="596880"/>
          </a:xfrm>
        </p:grpSpPr>
        <p:pic>
          <p:nvPicPr>
            <p:cNvPr id="233" name="Овал 17" descr=""/>
            <p:cNvPicPr/>
            <p:nvPr/>
          </p:nvPicPr>
          <p:blipFill>
            <a:blip r:embed="rId19"/>
            <a:stretch/>
          </p:blipFill>
          <p:spPr>
            <a:xfrm>
              <a:off x="8345520" y="2914560"/>
              <a:ext cx="590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8542440" y="31129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2" dur="indefinite" restart="never" nodeType="tmRoot">
          <p:childTnLst>
            <p:seq>
              <p:cTn id="653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654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677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6 -0.018 -0.02131 -0.023 -0.02131 C -0.054 -0.02131 -0.086 0.1452 -0.086 0.31171 C -0.086 0.22779 -0.102 0.1452 -0.117 0.1452 C -0.133 0.1452 -0.148 0.22912 -0.148 0.31171 C -0.148 0.27041 -0.156 0.22779 -0.164 0.22779 C -0.172 0.22779 -0.18 0.26909 -0.18 0.31171 C -0.18 0.2904 -0.184 0.27041 -0.188 0.27041 C -0.192 0.27041 -0.196 0.29172 -0.196 0.31171 C -0.196 0.30105 -0.198 0.2904 -0.2 0.2904 C -0.201 0.2904 -0.204 0.30106 -0.204 0.31171 C -0.204 0.30638 -0.205 0.30105 -0.206 0.30105 C -0.206 0.29972 -0.208 0.30638 -0.208 0.31171 C -0.208 0.30905 -0.208 0.30638 -0.209 0.30638 C -0.209 0.30771 -0.21 0.30904 -0.21 0.31171 C -0.21 0.31038 -0.21 0.30905 -0.21 0.30771 C -0.211 0.30771 -0.211 0.30904 -0.211 0.31037 C -0.212 0.31037 -0.212 0.30904 -0.212 0.30771 C -0.213 0.30771 -0.213 0.30904 -0.213 0.31037 E">
                                      <p:cBhvr>
                                        <p:cTn id="684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689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2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03608E-006 C -0.00486 -0.01064 -0.02187 -0.02128 -0.0276 -0.02128 C -0.0651 -0.02128 -0.10364 0.14524 -0.10364 0.31175 C -0.10364 0.2278 -0.12274 0.14524 -0.14097 0.14524 C -0.16024 0.14524 -0.17847 0.22919 -0.17847 0.31175 C -0.17847 0.27035 -0.18802 0.2278 -0.19757 0.2278 C -0.20729 0.2278 -0.21684 0.2692 -0.21684 0.31175 C -0.21684 0.29047 -0.2217 0.27035 -0.22656 0.27035 C -0.23125 0.27035 -0.23611 0.29163 -0.23611 0.31175 C -0.23611 0.30111 -0.23871 0.29047 -0.24097 0.29047 C -0.24218 0.29047 -0.24566 0.30111 -0.24566 0.31175 C -0.24566 0.30643 -0.24704 0.30111 -0.24826 0.30111 C -0.24826 0.29972 -0.25069 0.30643 -0.25069 0.31175 C -0.25069 0.30897 -0.25069 0.30643 -0.25208 0.30643 C -0.25208 0.30782 -0.25329 0.30921 -0.25329 0.31175 C -0.25329 0.31036 -0.25329 0.30897 -0.25329 0.30782 C -0.25451 0.30782 -0.25451 0.30921 -0.25451 0.31059 C -0.25573 0.31059 -0.25573 0.30921 -0.25573 0.30782 C -0.25694 0.30782 -0.25694 0.30921 -0.25694 0.31059 E">
                                      <p:cBhvr>
                                        <p:cTn id="696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701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4" dur="5904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39593E-006 L -0.07726 -0.03931 E">
                                      <p:cBhvr>
                                        <p:cTn id="706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7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23 L -0.09114 -0.13043 C -0.11024 -0.15911 -0.14184 -0.18201 -0.17725 -0.19264 C -0.21753 -0.20583 -0.30434 -0.14315 -0.33576 -0.10731 L -0.41475 0.04371 E">
                                      <p:cBhvr>
                                        <p:cTn id="708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4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8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26 -0.03931 L -0.00642 0.00278 E">
                                      <p:cBhvr>
                                        <p:cTn id="722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0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3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734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7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6 -0.018 -0.02131 -0.023 -0.02131 C -0.054 -0.02131 -0.086 0.1452 -0.086 0.31171 C -0.086 0.22779 -0.102 0.1452 -0.117 0.1452 C -0.133 0.1452 -0.148 0.22912 -0.148 0.31171 C -0.148 0.27041 -0.156 0.22779 -0.164 0.22779 C -0.172 0.22779 -0.18 0.26909 -0.18 0.31171 C -0.18 0.2904 -0.184 0.27041 -0.188 0.27041 C -0.192 0.27041 -0.196 0.29172 -0.196 0.31171 C -0.196 0.30105 -0.198 0.2904 -0.2 0.2904 C -0.201 0.2904 -0.204 0.30106 -0.204 0.31171 C -0.204 0.30638 -0.205 0.30105 -0.206 0.30105 C -0.206 0.29972 -0.208 0.30638 -0.208 0.31171 C -0.208 0.30905 -0.208 0.30638 -0.209 0.30638 C -0.209 0.30771 -0.21 0.30904 -0.21 0.31171 C -0.21 0.31038 -0.21 0.30905 -0.21 0.30771 C -0.211 0.30771 -0.211 0.30904 -0.211 0.31037 C -0.212 0.31037 -0.212 0.30904 -0.212 0.30771 C -0.213 0.30771 -0.213 0.30904 -0.213 0.31037 E">
                                      <p:cBhvr>
                                        <p:cTn id="741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C:\Documents and Settings\User\Рабочий стол\ТРИГГЕРЫ\Овчинникова\МК  4\3.png"/>
          <p:cNvPicPr/>
          <p:nvPr/>
        </p:nvPicPr>
        <p:blipFill>
          <a:blip r:embed="rId3"/>
          <a:stretch/>
        </p:blipFill>
        <p:spPr>
          <a:xfrm>
            <a:off x="214200" y="2941560"/>
            <a:ext cx="2286000" cy="3532320"/>
          </a:xfrm>
          <a:prstGeom prst="rect">
            <a:avLst/>
          </a:prstGeom>
          <a:ln w="0">
            <a:noFill/>
          </a:ln>
        </p:spPr>
      </p:pic>
      <p:pic>
        <p:nvPicPr>
          <p:cNvPr id="237" name="Скругленный прямоугольник 4" descr=""/>
          <p:cNvPicPr/>
          <p:nvPr/>
        </p:nvPicPr>
        <p:blipFill>
          <a:blip r:embed="rId4"/>
          <a:stretch/>
        </p:blipFill>
        <p:spPr>
          <a:xfrm>
            <a:off x="798480" y="60480"/>
            <a:ext cx="1706760" cy="993600"/>
          </a:xfrm>
          <a:prstGeom prst="rect">
            <a:avLst/>
          </a:prstGeom>
          <a:ln w="0">
            <a:noFill/>
          </a:ln>
        </p:spPr>
      </p:pic>
      <p:pic>
        <p:nvPicPr>
          <p:cNvPr id="238" name="Скругленный прямоугольник 9" descr=""/>
          <p:cNvPicPr/>
          <p:nvPr/>
        </p:nvPicPr>
        <p:blipFill>
          <a:blip r:embed="rId5"/>
          <a:stretch/>
        </p:blipFill>
        <p:spPr>
          <a:xfrm>
            <a:off x="2401920" y="171360"/>
            <a:ext cx="6546960" cy="846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C:\Documents and Settings\User\Рабочий стол\ТРИГГЕРЫ\Овчинникова\МК  4\2.png"/>
          <p:cNvPicPr/>
          <p:nvPr/>
        </p:nvPicPr>
        <p:blipFill>
          <a:blip r:embed="rId6"/>
          <a:stretch/>
        </p:blipFill>
        <p:spPr>
          <a:xfrm>
            <a:off x="6500880" y="3714840"/>
            <a:ext cx="2374920" cy="2722320"/>
          </a:xfrm>
          <a:prstGeom prst="rect">
            <a:avLst/>
          </a:prstGeom>
          <a:ln w="0">
            <a:noFill/>
          </a:ln>
        </p:spPr>
      </p:pic>
      <p:pic>
        <p:nvPicPr>
          <p:cNvPr id="240" name="Блок-схема: процесс 7" descr=""/>
          <p:cNvPicPr/>
          <p:nvPr/>
        </p:nvPicPr>
        <p:blipFill>
          <a:blip r:embed="rId7"/>
          <a:stretch/>
        </p:blipFill>
        <p:spPr>
          <a:xfrm>
            <a:off x="6724800" y="901800"/>
            <a:ext cx="2151000" cy="939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Documents and Settings\User\Рабочий стол\ТРИГГЕРЫ\Овчинникова\МК  4\мяч.png"/>
          <p:cNvPicPr/>
          <p:nvPr/>
        </p:nvPicPr>
        <p:blipFill>
          <a:blip r:embed="rId8"/>
          <a:stretch/>
        </p:blipFill>
        <p:spPr>
          <a:xfrm>
            <a:off x="2286000" y="4214880"/>
            <a:ext cx="795240" cy="804960"/>
          </a:xfrm>
          <a:prstGeom prst="rect">
            <a:avLst/>
          </a:prstGeom>
          <a:ln w="0">
            <a:noFill/>
          </a:ln>
        </p:spPr>
      </p:pic>
      <p:sp>
        <p:nvSpPr>
          <p:cNvPr id="242" name="Блок-схема: знак завершения 14">
            <a:hlinkClick r:id="rId9" action="ppaction://hlinksldjump"/>
          </p:cNvPr>
          <p:cNvSpPr/>
          <p:nvPr/>
        </p:nvSpPr>
        <p:spPr>
          <a:xfrm>
            <a:off x="4014720" y="6286680"/>
            <a:ext cx="1343160" cy="357120"/>
          </a:xfrm>
          <a:prstGeom prst="flowChartTerminator">
            <a:avLst/>
          </a:prstGeom>
          <a:solidFill>
            <a:srgbClr val="ffcc66"/>
          </a:solidFill>
          <a:ln w="25560">
            <a:solidFill>
              <a:srgbClr val="e46c0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апп.mp3" descr=""/>
          <p:cNvPicPr/>
          <p:nvPr/>
        </p:nvPicPr>
        <p:blipFill>
          <a:blip r:embed="rId11"/>
          <a:stretch/>
        </p:blipFill>
        <p:spPr>
          <a:xfrm>
            <a:off x="-304920" y="4000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3" descr="C:\Documents and Settings\User\Рабочий стол\ТРИГГЕРЫ\Овчинникова\МК  4\сетка.png"/>
          <p:cNvPicPr/>
          <p:nvPr/>
        </p:nvPicPr>
        <p:blipFill>
          <a:blip r:embed="rId12"/>
          <a:stretch/>
        </p:blipFill>
        <p:spPr>
          <a:xfrm>
            <a:off x="3700440" y="3060720"/>
            <a:ext cx="1596960" cy="3821040"/>
          </a:xfrm>
          <a:prstGeom prst="rect">
            <a:avLst/>
          </a:prstGeom>
          <a:ln w="0">
            <a:noFill/>
          </a:ln>
        </p:spPr>
      </p:pic>
      <p:pic>
        <p:nvPicPr>
          <p:cNvPr id="245" name="Блок-схема: процесс 8" descr=""/>
          <p:cNvPicPr/>
          <p:nvPr/>
        </p:nvPicPr>
        <p:blipFill>
          <a:blip r:embed="rId13"/>
          <a:stretch/>
        </p:blipFill>
        <p:spPr>
          <a:xfrm>
            <a:off x="4438800" y="901800"/>
            <a:ext cx="2260440" cy="939600"/>
          </a:xfrm>
          <a:prstGeom prst="rect">
            <a:avLst/>
          </a:prstGeom>
          <a:ln w="0">
            <a:noFill/>
          </a:ln>
        </p:spPr>
      </p:pic>
      <p:pic>
        <p:nvPicPr>
          <p:cNvPr id="246" name="Блок-схема: процесс 6" descr=""/>
          <p:cNvPicPr/>
          <p:nvPr/>
        </p:nvPicPr>
        <p:blipFill>
          <a:blip r:embed="rId14"/>
          <a:stretch/>
        </p:blipFill>
        <p:spPr>
          <a:xfrm>
            <a:off x="2365200" y="901800"/>
            <a:ext cx="2121120" cy="939600"/>
          </a:xfrm>
          <a:prstGeom prst="rect">
            <a:avLst/>
          </a:prstGeom>
          <a:ln w="0">
            <a:noFill/>
          </a:ln>
        </p:spPr>
      </p:pic>
      <p:pic>
        <p:nvPicPr>
          <p:cNvPr id="247" name="Блок-схема: процесс 5" descr=""/>
          <p:cNvPicPr/>
          <p:nvPr/>
        </p:nvPicPr>
        <p:blipFill>
          <a:blip r:embed="rId15"/>
          <a:stretch/>
        </p:blipFill>
        <p:spPr>
          <a:xfrm>
            <a:off x="225360" y="901800"/>
            <a:ext cx="2116080" cy="939600"/>
          </a:xfrm>
          <a:prstGeom prst="rect">
            <a:avLst/>
          </a:prstGeom>
          <a:ln w="0">
            <a:noFill/>
          </a:ln>
        </p:spPr>
      </p:pic>
      <p:pic>
        <p:nvPicPr>
          <p:cNvPr id="248" name="Скругленный прямоугольник 16" descr=""/>
          <p:cNvPicPr/>
          <p:nvPr/>
        </p:nvPicPr>
        <p:blipFill>
          <a:blip r:embed="rId16"/>
          <a:stretch/>
        </p:blipFill>
        <p:spPr>
          <a:xfrm>
            <a:off x="19080" y="55440"/>
            <a:ext cx="1047600" cy="955800"/>
          </a:xfrm>
          <a:prstGeom prst="rect">
            <a:avLst/>
          </a:prstGeom>
          <a:ln w="0">
            <a:noFill/>
          </a:ln>
        </p:spPr>
      </p:pic>
      <p:grpSp>
        <p:nvGrpSpPr>
          <p:cNvPr id="249" name="Овал 18"/>
          <p:cNvGrpSpPr/>
          <p:nvPr/>
        </p:nvGrpSpPr>
        <p:grpSpPr>
          <a:xfrm>
            <a:off x="55440" y="1841400"/>
            <a:ext cx="596880" cy="596880"/>
            <a:chOff x="55440" y="1841400"/>
            <a:chExt cx="596880" cy="596880"/>
          </a:xfrm>
        </p:grpSpPr>
        <p:pic>
          <p:nvPicPr>
            <p:cNvPr id="250" name="Овал 18" descr=""/>
            <p:cNvPicPr/>
            <p:nvPr/>
          </p:nvPicPr>
          <p:blipFill>
            <a:blip r:embed="rId17"/>
            <a:stretch/>
          </p:blipFill>
          <p:spPr>
            <a:xfrm>
              <a:off x="55440" y="184140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255600" y="20415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Овал 19"/>
          <p:cNvGrpSpPr/>
          <p:nvPr/>
        </p:nvGrpSpPr>
        <p:grpSpPr>
          <a:xfrm>
            <a:off x="55440" y="2341440"/>
            <a:ext cx="596880" cy="596880"/>
            <a:chOff x="55440" y="2341440"/>
            <a:chExt cx="596880" cy="596880"/>
          </a:xfrm>
        </p:grpSpPr>
        <p:pic>
          <p:nvPicPr>
            <p:cNvPr id="253" name="Овал 19" descr=""/>
            <p:cNvPicPr/>
            <p:nvPr/>
          </p:nvPicPr>
          <p:blipFill>
            <a:blip r:embed="rId18"/>
            <a:stretch/>
          </p:blipFill>
          <p:spPr>
            <a:xfrm>
              <a:off x="55440" y="234144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255600" y="25416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Овал 20"/>
          <p:cNvGrpSpPr/>
          <p:nvPr/>
        </p:nvGrpSpPr>
        <p:grpSpPr>
          <a:xfrm>
            <a:off x="55440" y="2914560"/>
            <a:ext cx="596880" cy="596880"/>
            <a:chOff x="55440" y="2914560"/>
            <a:chExt cx="596880" cy="596880"/>
          </a:xfrm>
        </p:grpSpPr>
        <p:pic>
          <p:nvPicPr>
            <p:cNvPr id="256" name="Овал 20" descr=""/>
            <p:cNvPicPr/>
            <p:nvPr/>
          </p:nvPicPr>
          <p:blipFill>
            <a:blip r:embed="rId19"/>
            <a:stretch/>
          </p:blipFill>
          <p:spPr>
            <a:xfrm>
              <a:off x="55440" y="291456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55600" y="31129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5" dur="indefinite" restart="never" nodeType="tmRoot">
          <p:childTnLst>
            <p:seq>
              <p:cTn id="74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74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770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3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014E-007 C 0.00295 -0.00648 0.01337 -0.01295 0.01702 -0.01295 C 0.04028 -0.01295 0.06407 0.0895 0.06407 0.19195 C 0.06407 0.14015 0.07604 0.0895 0.08733 0.0895 C 0.09931 0.0895 0.11059 0.14107 0.11059 0.19195 C 0.11059 0.16628 0.1165 0.14015 0.1224 0.14015 C 0.12848 0.14015 0.13438 0.16559 0.13438 0.19195 C 0.13438 0.17877 0.13733 0.16628 0.14028 0.16628 C 0.14341 0.16628 0.14636 0.17946 0.14636 0.19195 C 0.14636 0.18524 0.14792 0.17877 0.14931 0.17877 C 0.15 0.17877 0.15226 0.18524 0.15226 0.19195 C 0.15226 0.18848 0.15313 0.18524 0.15382 0.18524 C 0.15382 0.18617 0.15538 0.18848 0.15538 0.19195 C 0.15538 0.1901 0.15538 0.18848 0.15625 0.18848 C 0.15625 0.18941 0.15695 0.19033 0.15695 0.19195 C 0.15695 0.19103 0.15695 0.1901 0.15695 0.18941 C 0.15782 0.18941 0.15782 0.19033 0.15782 0.19103 C 0.15851 0.19103 0.15851 0.19033 0.15851 0.18941 C 0.15938 0.18941 0.15938 0.19033 0.15938 0.19103 E">
                                      <p:cBhvr>
                                        <p:cTn id="777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1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782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5" dur="5904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32192E-006 L 0.06805 -0.02891 E">
                                      <p:cBhvr>
                                        <p:cTn id="787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8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1249 L 0.09549 -0.16259 C 0.11441 -0.19589 0.14584 -0.21809 0.18004 -0.22433 C 0.21927 -0.2315 0.25226 -0.22086 0.27726 -0.19543 L 0.39584 -0.08349 E">
                                      <p:cBhvr>
                                        <p:cTn id="789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 -0.03423 L 2.5E-006 4.75486E-006 E">
                                      <p:cBhvr>
                                        <p:cTn id="791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1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815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8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833 C 0.004 -0.01481 0.01806 -0.02128 0.02292 -0.02128 C 0.054 -0.02128 0.08594 0.08117 0.08594 0.18362 C 0.08594 0.13182 0.10191 0.08117 0.11702 0.08117 C 0.13299 0.08117 0.14809 0.13274 0.14809 0.18362 C 0.14809 0.15795 0.15608 0.13182 0.16407 0.13182 C 0.17205 0.13182 0.18004 0.15726 0.18004 0.18362 C 0.18004 0.17044 0.18403 0.15795 0.18802 0.15795 C 0.19202 0.15795 0.19601 0.17113 0.19601 0.18362 C 0.19601 0.17691 0.19809 0.17044 0.2 0.17044 C 0.20104 0.17044 0.204 0.17691 0.204 0.18362 C 0.204 0.18015 0.20504 0.17691 0.20608 0.17691 C 0.20608 0.17784 0.20816 0.18015 0.20816 0.18362 C 0.20816 0.18177 0.20816 0.18015 0.2092 0.18015 C 0.2092 0.18108 0.21025 0.182 0.21025 0.18362 C 0.21025 0.1827 0.21025 0.18177 0.21025 0.18108 C 0.21129 0.18108 0.21129 0.182 0.21129 0.1827 C 0.21233 0.1827 0.21233 0.182 0.21233 0.18108 C 0.21337 0.18108 0.21337 0.182 0.21337 0.1827 E">
                                      <p:cBhvr>
                                        <p:cTn id="822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625 C 0.004 -0.01388 0.01806 -0.02128 0.02292 -0.02128 C 0.054 -0.02128 0.08594 0.0969 0.08594 0.21507 C 0.08594 0.15541 0.10191 0.0969 0.11702 0.0969 C 0.13299 0.0969 0.14809 0.15633 0.14809 0.21507 C 0.14809 0.18547 0.15608 0.15541 0.16407 0.15541 C 0.17205 0.15541 0.18004 0.18478 0.18004 0.21507 C 0.18004 0.19981 0.18403 0.18547 0.18802 0.18547 C 0.19202 0.18547 0.19601 0.20074 0.19601 0.21507 C 0.19601 0.20744 0.19809 0.19981 0.2 0.19981 C 0.20104 0.19981 0.204 0.20744 0.204 0.21507 C 0.204 0.21114 0.20504 0.20744 0.20608 0.20744 C 0.20608 0.20837 0.20816 0.21114 0.20816 0.21507 C 0.20816 0.21299 0.20816 0.21114 0.2092 0.21114 C 0.2092 0.21207 0.21025 0.21322 0.21025 0.21507 C 0.21025 0.21392 0.21025 0.21299 0.21025 0.21207 C 0.21129 0.21207 0.21129 0.21322 0.21129 0.21415 C 0.21233 0.21415 0.21233 0.21322 0.21233 0.21207 C 0.21337 0.21207 0.21337 0.21322 0.21337 0.21415 E">
                                      <p:cBhvr>
                                        <p:cTn id="834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Блок-схема: процесс 3" descr=""/>
          <p:cNvPicPr/>
          <p:nvPr/>
        </p:nvPicPr>
        <p:blipFill>
          <a:blip r:embed="rId2"/>
          <a:stretch/>
        </p:blipFill>
        <p:spPr>
          <a:xfrm>
            <a:off x="6645240" y="1036800"/>
            <a:ext cx="2266920" cy="761760"/>
          </a:xfrm>
          <a:prstGeom prst="rect">
            <a:avLst/>
          </a:prstGeom>
          <a:ln w="0">
            <a:noFill/>
          </a:ln>
        </p:spPr>
      </p:pic>
      <p:pic>
        <p:nvPicPr>
          <p:cNvPr id="259" name="Скругленный прямоугольник 5" descr=""/>
          <p:cNvPicPr/>
          <p:nvPr/>
        </p:nvPicPr>
        <p:blipFill>
          <a:blip r:embed="rId3"/>
          <a:stretch/>
        </p:blipFill>
        <p:spPr>
          <a:xfrm>
            <a:off x="7254720" y="60480"/>
            <a:ext cx="1713240" cy="993600"/>
          </a:xfrm>
          <a:prstGeom prst="rect">
            <a:avLst/>
          </a:prstGeom>
          <a:ln w="0">
            <a:noFill/>
          </a:ln>
        </p:spPr>
      </p:pic>
      <p:pic>
        <p:nvPicPr>
          <p:cNvPr id="260" name="Скругленный прямоугольник 6" descr=""/>
          <p:cNvPicPr/>
          <p:nvPr/>
        </p:nvPicPr>
        <p:blipFill>
          <a:blip r:embed="rId4"/>
          <a:stretch/>
        </p:blipFill>
        <p:spPr>
          <a:xfrm>
            <a:off x="1285920" y="219240"/>
            <a:ext cx="6138720" cy="847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C:\Documents and Settings\User\Рабочий стол\ТРИГГЕРЫ\Овчинникова\МК  4\2.png"/>
          <p:cNvPicPr/>
          <p:nvPr/>
        </p:nvPicPr>
        <p:blipFill>
          <a:blip r:embed="rId5"/>
          <a:stretch/>
        </p:blipFill>
        <p:spPr>
          <a:xfrm>
            <a:off x="6500880" y="3714840"/>
            <a:ext cx="2374920" cy="2722320"/>
          </a:xfrm>
          <a:prstGeom prst="rect">
            <a:avLst/>
          </a:prstGeom>
          <a:ln w="0">
            <a:noFill/>
          </a:ln>
        </p:spPr>
      </p:pic>
      <p:pic>
        <p:nvPicPr>
          <p:cNvPr id="262" name="Блок-схема: процесс 2" descr=""/>
          <p:cNvPicPr/>
          <p:nvPr/>
        </p:nvPicPr>
        <p:blipFill>
          <a:blip r:embed="rId6"/>
          <a:stretch/>
        </p:blipFill>
        <p:spPr>
          <a:xfrm>
            <a:off x="4511520" y="1036800"/>
            <a:ext cx="2114640" cy="761760"/>
          </a:xfrm>
          <a:prstGeom prst="rect">
            <a:avLst/>
          </a:prstGeom>
          <a:ln w="0">
            <a:noFill/>
          </a:ln>
        </p:spPr>
      </p:pic>
      <p:pic>
        <p:nvPicPr>
          <p:cNvPr id="263" name="Блок-схема: процесс 4" descr=""/>
          <p:cNvPicPr/>
          <p:nvPr/>
        </p:nvPicPr>
        <p:blipFill>
          <a:blip r:embed="rId7"/>
          <a:stretch/>
        </p:blipFill>
        <p:spPr>
          <a:xfrm>
            <a:off x="2365200" y="1036800"/>
            <a:ext cx="2121120" cy="761760"/>
          </a:xfrm>
          <a:prstGeom prst="rect">
            <a:avLst/>
          </a:prstGeom>
          <a:ln w="0">
            <a:noFill/>
          </a:ln>
        </p:spPr>
      </p:pic>
      <p:pic>
        <p:nvPicPr>
          <p:cNvPr id="264" name="Блок-схема: процесс 1" descr=""/>
          <p:cNvPicPr/>
          <p:nvPr/>
        </p:nvPicPr>
        <p:blipFill>
          <a:blip r:embed="rId8"/>
          <a:stretch/>
        </p:blipFill>
        <p:spPr>
          <a:xfrm>
            <a:off x="225360" y="1036800"/>
            <a:ext cx="2103480" cy="761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3" descr="C:\Documents and Settings\User\Рабочий стол\ТРИГГЕРЫ\Овчинникова\МК  4\сетка.png"/>
          <p:cNvPicPr/>
          <p:nvPr/>
        </p:nvPicPr>
        <p:blipFill>
          <a:blip r:embed="rId9"/>
          <a:stretch/>
        </p:blipFill>
        <p:spPr>
          <a:xfrm>
            <a:off x="3700440" y="3200400"/>
            <a:ext cx="1596960" cy="3681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C:\Documents and Settings\User\Рабочий стол\ТРИГГЕРЫ\Овчинникова\МК  4\3.png"/>
          <p:cNvPicPr/>
          <p:nvPr/>
        </p:nvPicPr>
        <p:blipFill>
          <a:blip r:embed="rId10"/>
          <a:stretch/>
        </p:blipFill>
        <p:spPr>
          <a:xfrm>
            <a:off x="214200" y="2941560"/>
            <a:ext cx="2286000" cy="3532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C:\Documents and Settings\User\Рабочий стол\ТРИГГЕРЫ\Овчинникова\МК  4\мяч.png"/>
          <p:cNvPicPr/>
          <p:nvPr/>
        </p:nvPicPr>
        <p:blipFill>
          <a:blip r:embed="rId11"/>
          <a:stretch/>
        </p:blipFill>
        <p:spPr>
          <a:xfrm rot="6252600">
            <a:off x="5948280" y="3582720"/>
            <a:ext cx="795240" cy="804960"/>
          </a:xfrm>
          <a:prstGeom prst="rect">
            <a:avLst/>
          </a:prstGeom>
          <a:ln w="0">
            <a:noFill/>
          </a:ln>
        </p:spPr>
      </p:pic>
      <p:pic>
        <p:nvPicPr>
          <p:cNvPr id="268" name="апп.mp3" descr=""/>
          <p:cNvPicPr/>
          <p:nvPr/>
        </p:nvPicPr>
        <p:blipFill>
          <a:blip r:embed="rId12"/>
          <a:stretch/>
        </p:blipFill>
        <p:spPr>
          <a:xfrm>
            <a:off x="9358200" y="5500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9" name="Скругленный прямоугольник 15" descr=""/>
          <p:cNvPicPr/>
          <p:nvPr/>
        </p:nvPicPr>
        <p:blipFill>
          <a:blip r:embed="rId13"/>
          <a:stretch/>
        </p:blipFill>
        <p:spPr>
          <a:xfrm>
            <a:off x="12600" y="42840"/>
            <a:ext cx="1298520" cy="968400"/>
          </a:xfrm>
          <a:prstGeom prst="rect">
            <a:avLst/>
          </a:prstGeom>
          <a:ln w="0">
            <a:noFill/>
          </a:ln>
        </p:spPr>
      </p:pic>
      <p:pic>
        <p:nvPicPr>
          <p:cNvPr id="270" name="солнышко.mp3" descr=""/>
          <p:cNvPicPr/>
          <p:nvPr/>
        </p:nvPicPr>
        <p:blipFill>
          <a:blip r:embed="rId14"/>
          <a:stretch/>
        </p:blipFill>
        <p:spPr>
          <a:xfrm>
            <a:off x="9358200" y="4500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1" name="Блок-схема: знак завершения 9">
            <a:hlinkClick r:id="rId15" action="ppaction://hlinksldjump"/>
          </p:cNvPr>
          <p:cNvSpPr/>
          <p:nvPr/>
        </p:nvSpPr>
        <p:spPr>
          <a:xfrm>
            <a:off x="1357200" y="214200"/>
            <a:ext cx="5786640" cy="1000080"/>
          </a:xfrm>
          <a:prstGeom prst="flowChartTerminator">
            <a:avLst/>
          </a:prstGeom>
          <a:solidFill>
            <a:srgbClr val="ffcc66"/>
          </a:solidFill>
          <a:ln w="25560">
            <a:solidFill>
              <a:srgbClr val="e46c0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Calibri"/>
              </a:rPr>
              <a:t>ПОЗДРАВЛЯЕМ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16"/>
          <a:stretch/>
        </p:blipFill>
        <p:spPr>
          <a:xfrm>
            <a:off x="1500120" y="2286000"/>
            <a:ext cx="2212920" cy="2214720"/>
          </a:xfrm>
          <a:prstGeom prst="rect">
            <a:avLst/>
          </a:prstGeom>
          <a:ln w="0">
            <a:noFill/>
          </a:ln>
        </p:spPr>
      </p:pic>
      <p:grpSp>
        <p:nvGrpSpPr>
          <p:cNvPr id="273" name="Овал 18"/>
          <p:cNvGrpSpPr/>
          <p:nvPr/>
        </p:nvGrpSpPr>
        <p:grpSpPr>
          <a:xfrm>
            <a:off x="8345520" y="1841400"/>
            <a:ext cx="590400" cy="596880"/>
            <a:chOff x="8345520" y="1841400"/>
            <a:chExt cx="590400" cy="596880"/>
          </a:xfrm>
        </p:grpSpPr>
        <p:pic>
          <p:nvPicPr>
            <p:cNvPr id="274" name="Овал 18" descr=""/>
            <p:cNvPicPr/>
            <p:nvPr/>
          </p:nvPicPr>
          <p:blipFill>
            <a:blip r:embed="rId17"/>
            <a:stretch/>
          </p:blipFill>
          <p:spPr>
            <a:xfrm>
              <a:off x="8345520" y="1841400"/>
              <a:ext cx="590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8542440" y="20415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Овал 19"/>
          <p:cNvGrpSpPr/>
          <p:nvPr/>
        </p:nvGrpSpPr>
        <p:grpSpPr>
          <a:xfrm>
            <a:off x="8345520" y="2341440"/>
            <a:ext cx="590400" cy="596880"/>
            <a:chOff x="8345520" y="2341440"/>
            <a:chExt cx="590400" cy="596880"/>
          </a:xfrm>
        </p:grpSpPr>
        <p:pic>
          <p:nvPicPr>
            <p:cNvPr id="277" name="Овал 19" descr=""/>
            <p:cNvPicPr/>
            <p:nvPr/>
          </p:nvPicPr>
          <p:blipFill>
            <a:blip r:embed="rId18"/>
            <a:stretch/>
          </p:blipFill>
          <p:spPr>
            <a:xfrm>
              <a:off x="8345520" y="2341440"/>
              <a:ext cx="590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8542440" y="25416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Овал 20"/>
          <p:cNvGrpSpPr/>
          <p:nvPr/>
        </p:nvGrpSpPr>
        <p:grpSpPr>
          <a:xfrm>
            <a:off x="8345520" y="2914560"/>
            <a:ext cx="590400" cy="596880"/>
            <a:chOff x="8345520" y="2914560"/>
            <a:chExt cx="590400" cy="596880"/>
          </a:xfrm>
        </p:grpSpPr>
        <p:pic>
          <p:nvPicPr>
            <p:cNvPr id="280" name="Овал 20" descr=""/>
            <p:cNvPicPr/>
            <p:nvPr/>
          </p:nvPicPr>
          <p:blipFill>
            <a:blip r:embed="rId19"/>
            <a:stretch/>
          </p:blipFill>
          <p:spPr>
            <a:xfrm>
              <a:off x="8345520" y="2914560"/>
              <a:ext cx="590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8542440" y="31129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38" dur="indefinite" restart="never" nodeType="tmRoot">
          <p:childTnLst>
            <p:seq>
              <p:cTn id="839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840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863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6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path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1066 -0.018 -0.02131 -0.023 -0.02131 C -0.054 -0.02131 -0.086 0.1452 -0.086 0.31171 C -0.086 0.22779 -0.102 0.1452 -0.117 0.1452 C -0.133 0.1452 -0.148 0.22912 -0.148 0.31171 C -0.148 0.27041 -0.156 0.22779 -0.164 0.22779 C -0.172 0.22779 -0.18 0.26909 -0.18 0.31171 C -0.18 0.2904 -0.184 0.27041 -0.188 0.27041 C -0.192 0.27041 -0.196 0.29172 -0.196 0.31171 C -0.196 0.30105 -0.198 0.2904 -0.2 0.2904 C -0.201 0.2904 -0.204 0.30106 -0.204 0.31171 C -0.204 0.30638 -0.205 0.30105 -0.206 0.30105 C -0.206 0.29972 -0.208 0.30638 -0.208 0.31171 C -0.208 0.30905 -0.208 0.30638 -0.209 0.30638 C -0.209 0.30771 -0.21 0.30904 -0.21 0.31171 C -0.21 0.31038 -0.21 0.30905 -0.21 0.30771 C -0.211 0.30771 -0.211 0.30904 -0.211 0.31037 C -0.212 0.31037 -0.212 0.30904 -0.212 0.30771 C -0.213 0.30771 -0.213 0.30904 -0.213 0.31037 E">
                                      <p:cBhvr>
                                        <p:cTn id="870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875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8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path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-1.03608E-006 C -0.00486 -0.01064 -0.02187 -0.02128 -0.0276 -0.02128 C -0.0651 -0.02128 -0.10364 0.14524 -0.10364 0.31175 C -0.10364 0.2278 -0.12274 0.14524 -0.14097 0.14524 C -0.16024 0.14524 -0.17847 0.22919 -0.17847 0.31175 C -0.17847 0.27035 -0.18802 0.2278 -0.19757 0.2278 C -0.20729 0.2278 -0.21684 0.2692 -0.21684 0.31175 C -0.21684 0.29047 -0.2217 0.27035 -0.22656 0.27035 C -0.23125 0.27035 -0.23611 0.29163 -0.23611 0.31175 C -0.23611 0.30111 -0.23871 0.29047 -0.24097 0.29047 C -0.24218 0.29047 -0.24566 0.30111 -0.24566 0.31175 C -0.24566 0.30643 -0.24704 0.30111 -0.24826 0.30111 C -0.24826 0.29972 -0.25069 0.30643 -0.25069 0.31175 C -0.25069 0.30897 -0.25069 0.30643 -0.25208 0.30643 C -0.25208 0.30782 -0.25329 0.30921 -0.25329 0.31175 C -0.25329 0.31036 -0.25329 0.30897 -0.25329 0.30782 C -0.25451 0.30782 -0.25451 0.30921 -0.25451 0.31059 C -0.25573 0.31059 -0.25573 0.30921 -0.25573 0.30782 C -0.25694 0.30782 -0.25694 0.30921 -0.25694 0.31059 E">
                                      <p:cBhvr>
                                        <p:cTn id="882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887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0" dur="5904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70213E-006 L -0.05729 -0.05111 E">
                                      <p:cBhvr>
                                        <p:cTn id="892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3" nodeType="withEffect" fill="hold" presetClass="path" presetID="4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34 0.0266 L -0.09114 -0.12072 C -0.11024 -0.1531 -0.14184 -0.179 -0.17725 -0.19103 C -0.21736 -0.20583 -0.30416 -0.13506 -0.33559 -0.09459 L -0.41441 0.07632 E">
                                      <p:cBhvr>
                                        <p:cTn id="894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31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96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8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2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6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29 -0.05111 L -0.00226 -0.00902 E">
                                      <p:cBhvr>
                                        <p:cTn id="920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2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5904"/>
                            </p:stCondLst>
                            <p:childTnLst>
                              <p:par>
                                <p:cTn id="9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0" dur="52350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mph" presetID="8" repeatCount="2000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938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9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2.63645E-006 L 0.029 -0.09713 C 0.03802 -0.11841 0.05538 -0.13459 0.07518 -0.142 C 0.09792 -0.15055 0.11823 -0.1487 0.1342 -0.13668 L 0.21146 -0.0858 E">
                                      <p:cBhvr>
                                        <p:cTn id="940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1" nodeType="withEffect" fill="hold" presetClass="path" presetID="44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49618 8.32562E-007 L 0.35868 -0.13992 C 0.32969 -0.17137 0.28681 -0.18871 0.24201 -0.18871 C 0.1908 -0.18871 0.15 -0.17137 0.12118 -0.13992 L -0.0158 8.32562E-007 E">
                                      <p:cBhvr>
                                        <p:cTn id="942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3" nodeType="withEffect" fill="hold" presetClass="path" presetID="44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2.5E-006 4.6531E-006 L 0.13299 -0.15125 C 0.16077 -0.18548 0.20261 -0.20444 0.24601 -0.20444 C 0.29549 -0.20444 0.33525 -0.18548 0.36302 -0.15125 L 0.49618 4.6531E-006 E">
                                      <p:cBhvr>
                                        <p:cTn id="944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5" nodeType="withEffect" fill="hold" presetClass="path" presetID="1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.43333 -0.08926 C 0.37917 -0.1827 0.29809 -0.24121 0.20764 -0.24121 C 0.11771 -0.24121 0.03663 -0.1827 -0.01719 -0.08926 C 0.03663 0.0037 0.11771 0.06314 0.20764 0.06314 C 0.29809 0.06314 0.37917 0.0037 0.43333 -0.08926 Z">
                                      <p:cBhvr>
                                        <p:cTn id="946" dur="5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7" nodeType="withEffect" fill="hold" presetClass="emph" presetID="8">
                                  <p:stCondLst>
                                    <p:cond delay="9000"/>
                                  </p:stCondLst>
                                  <p:childTnLst>
                                    <p:animRot by="-21600000">
                                      <p:cBhvr>
                                        <p:cTn id="948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9" nodeType="withEffect" fill="hold" presetClass="path" presetID="44">
                                  <p:stCondLst>
                                    <p:cond delay="11000"/>
                                  </p:stCondLst>
                                  <p:childTnLst>
                                    <p:animMotion origin="layout" path="M 0.42691 2.53469E-006 L 0.31233 -0.17877 C 0.28837 -0.21901 0.25244 -0.24121 0.21494 -0.24121 C 0.1724 -0.24121 0.1382 -0.21901 0.11424 -0.17877 L 5E-006 2.53469E-006 E">
                                      <p:cBhvr>
                                        <p:cTn id="950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path" presetID="44">
                                  <p:stCondLst>
                                    <p:cond delay="14000"/>
                                  </p:stCondLst>
                                  <p:childTnLst>
                                    <p:animMotion origin="layout" path="M -2.77778E-006 -4.49584E-006 L 0.11979 -0.16304 C 0.14497 -0.19981 0.18264 -0.22016 0.2217 -0.22016 C 0.2665 -0.22016 0.30226 -0.19981 0.32743 -0.16304 L 0.4474 -4.49584E-006 E">
                                      <p:cBhvr>
                                        <p:cTn id="952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3" nodeType="withEffect" fill="hold" presetClass="path" presetID="64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0.49618 1.68363E-006 L 0.22274 -0.17299 E">
                                      <p:cBhvr>
                                        <p:cTn id="954" dur="5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5" nodeType="withEffect" fill="hold" presetClass="emph" presetID="8">
                                  <p:stCondLst>
                                    <p:cond delay="18000"/>
                                  </p:stCondLst>
                                  <p:childTnLst>
                                    <p:animRot by="21600000">
                                      <p:cBhvr>
                                        <p:cTn id="956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0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961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4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path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1066 -0.018 -0.02131 -0.023 -0.02131 C -0.054 -0.02131 -0.086 0.1452 -0.086 0.31171 C -0.086 0.22779 -0.102 0.1452 -0.117 0.1452 C -0.133 0.1452 -0.148 0.22912 -0.148 0.31171 C -0.148 0.27041 -0.156 0.22779 -0.164 0.22779 C -0.172 0.22779 -0.18 0.26909 -0.18 0.31171 C -0.18 0.2904 -0.184 0.27041 -0.188 0.27041 C -0.192 0.27041 -0.196 0.29172 -0.196 0.31171 C -0.196 0.30105 -0.198 0.2904 -0.2 0.2904 C -0.201 0.2904 -0.204 0.30106 -0.204 0.31171 C -0.204 0.30638 -0.205 0.30105 -0.206 0.30105 C -0.206 0.29972 -0.208 0.30638 -0.208 0.31171 C -0.208 0.30905 -0.208 0.30638 -0.209 0.30638 C -0.209 0.30771 -0.21 0.30904 -0.21 0.31171 C -0.21 0.31038 -0.21 0.30905 -0.21 0.30771 C -0.211 0.30771 -0.211 0.30904 -0.211 0.31037 C -0.212 0.31037 -0.212 0.30904 -0.212 0.30771 C -0.213 0.30771 -0.213 0.30904 -0.213 0.31037 E">
                                      <p:cBhvr>
                                        <p:cTn id="968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642960" y="57168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f497d"/>
                </a:solidFill>
                <a:latin typeface="Arial Black"/>
              </a:rPr>
              <a:t>Список </a:t>
            </a:r>
            <a:r>
              <a:rPr b="0" lang="ru-RU" sz="1800" spc="-1" strike="noStrike">
                <a:solidFill>
                  <a:srgbClr val="1f497d"/>
                </a:solidFill>
                <a:latin typeface="Arial Black"/>
              </a:rPr>
              <a:t>использованных ресур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28400" y="1214280"/>
            <a:ext cx="8258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 –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i046.radikal.ru/0805/3e/dcd0e688db78t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ышко -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radikal.ru/F/i046.radikal.ru/0805/1d/553b7ae1e0b1.png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тьми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011.radikal.ru/0805/e6/fd2cc8d085c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лодисменты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podst.ru/pix/user_files/2/2085/aplodisments1.mp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noise.podst.ru/posts/1619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одия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podst.ru/pix/user_files/2/1806/music_box_long_play.mp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Манжула А.М., Мастер-класс "Всё о триггерах"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2"/>
          <p:cNvSpPr/>
          <p:nvPr/>
        </p:nvSpPr>
        <p:spPr>
          <a:xfrm>
            <a:off x="500040" y="471492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 Black"/>
              </a:rPr>
              <a:t>Методические рекоменд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1f497d"/>
                </a:solidFill>
                <a:latin typeface="Arial Black"/>
              </a:rPr>
              <a:t>использованные в создании иг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386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Школа АБВ»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tp://www.shkola-abv.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2340000" y="54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 Black"/>
                <a:ea typeface="Tahoma"/>
              </a:rPr>
              <a:t>Потапова Светлана Владимировн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 Black"/>
                <a:ea typeface="Tahoma"/>
              </a:rPr>
              <a:t>учитель начальных классов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 Black"/>
                <a:ea typeface="Tahoma"/>
              </a:rPr>
              <a:t>МБОУ СОШ №8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 Black"/>
                <a:ea typeface="Tahoma"/>
              </a:rPr>
              <a:t>Г.Сам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2475000" y="957240"/>
            <a:ext cx="513864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User\Рабочий стол\1.ТРИГГЕРЫ\Овчинникова\МК  4\сетка.png"/>
          <p:cNvPicPr/>
          <p:nvPr/>
        </p:nvPicPr>
        <p:blipFill>
          <a:blip r:embed="rId3"/>
          <a:stretch/>
        </p:blipFill>
        <p:spPr>
          <a:xfrm>
            <a:off x="2357280" y="3857760"/>
            <a:ext cx="451836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User\Рабочий стол\1.ТРИГГЕРЫ\Овчинникова\МК  4\мяч.png"/>
          <p:cNvPicPr/>
          <p:nvPr/>
        </p:nvPicPr>
        <p:blipFill>
          <a:blip r:embed="rId4"/>
          <a:stretch/>
        </p:blipFill>
        <p:spPr>
          <a:xfrm>
            <a:off x="5357880" y="5715000"/>
            <a:ext cx="785880" cy="795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Documents and Settings\User\Рабочий стол\1.ТРИГГЕРЫ\Овчинникова\МК  4\4.png"/>
          <p:cNvPicPr/>
          <p:nvPr/>
        </p:nvPicPr>
        <p:blipFill>
          <a:blip r:embed="rId5"/>
          <a:stretch/>
        </p:blipFill>
        <p:spPr>
          <a:xfrm>
            <a:off x="285840" y="3571920"/>
            <a:ext cx="1714320" cy="2857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User\Рабочий стол\1.ТРИГГЕРЫ\Овчинникова\МК  4\1.png"/>
          <p:cNvPicPr/>
          <p:nvPr/>
        </p:nvPicPr>
        <p:blipFill>
          <a:blip r:embed="rId6"/>
          <a:stretch/>
        </p:blipFill>
        <p:spPr>
          <a:xfrm>
            <a:off x="6786720" y="3714840"/>
            <a:ext cx="1928520" cy="28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500040" y="214200"/>
            <a:ext cx="8286840" cy="4429080"/>
          </a:xfrm>
          <a:prstGeom prst="rect">
            <a:avLst/>
          </a:prstGeom>
          <a:solidFill>
            <a:srgbClr val="ffffff">
              <a:alpha val="3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57120" y="5716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 Black"/>
              </a:rPr>
              <a:t>Анно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Дидактическая игра «Волейбол»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направлена на обобщение и контроль знан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На слайдах №3-12 добавьте вопросы  и ответы в соответствующие пол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Для появления вопроса следует нажать на надпись «команда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При выборе правильного ответа, мяч перебрасывается через сетку, звучат аплодисменты, появляется надпись: «дальше», право ответа на вопрос переходит противоположной команд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При выборе неправильного ответа, надпись исчезает, команда получает штрафное очк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C:\Documents and Settings\User\Рабочий стол\ТРИГГЕРЫ\Овчинникова\МК  4\3.png"/>
          <p:cNvPicPr/>
          <p:nvPr/>
        </p:nvPicPr>
        <p:blipFill>
          <a:blip r:embed="rId2"/>
          <a:stretch/>
        </p:blipFill>
        <p:spPr>
          <a:xfrm>
            <a:off x="214200" y="2941560"/>
            <a:ext cx="2286000" cy="3532320"/>
          </a:xfrm>
          <a:prstGeom prst="rect">
            <a:avLst/>
          </a:prstGeom>
          <a:ln w="0">
            <a:noFill/>
          </a:ln>
        </p:spPr>
      </p:pic>
      <p:pic>
        <p:nvPicPr>
          <p:cNvPr id="58" name="Скругленный прямоугольник 4" descr=""/>
          <p:cNvPicPr/>
          <p:nvPr/>
        </p:nvPicPr>
        <p:blipFill>
          <a:blip r:embed="rId3"/>
          <a:stretch/>
        </p:blipFill>
        <p:spPr>
          <a:xfrm>
            <a:off x="798480" y="60480"/>
            <a:ext cx="1706760" cy="993600"/>
          </a:xfrm>
          <a:prstGeom prst="rect">
            <a:avLst/>
          </a:prstGeom>
          <a:ln w="0">
            <a:noFill/>
          </a:ln>
        </p:spPr>
      </p:pic>
      <p:pic>
        <p:nvPicPr>
          <p:cNvPr id="59" name="Скругленный прямоугольник 9" descr=""/>
          <p:cNvPicPr/>
          <p:nvPr/>
        </p:nvPicPr>
        <p:blipFill>
          <a:blip r:embed="rId4"/>
          <a:stretch/>
        </p:blipFill>
        <p:spPr>
          <a:xfrm>
            <a:off x="2457360" y="152280"/>
            <a:ext cx="6491520" cy="865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Documents and Settings\User\Рабочий стол\ТРИГГЕРЫ\Овчинникова\МК  4\2.png"/>
          <p:cNvPicPr/>
          <p:nvPr/>
        </p:nvPicPr>
        <p:blipFill>
          <a:blip r:embed="rId5"/>
          <a:stretch/>
        </p:blipFill>
        <p:spPr>
          <a:xfrm>
            <a:off x="6500880" y="3714840"/>
            <a:ext cx="2374920" cy="2722320"/>
          </a:xfrm>
          <a:prstGeom prst="rect">
            <a:avLst/>
          </a:prstGeom>
          <a:ln w="0">
            <a:noFill/>
          </a:ln>
        </p:spPr>
      </p:pic>
      <p:pic>
        <p:nvPicPr>
          <p:cNvPr id="61" name="Блок-схема: процесс 7" descr=""/>
          <p:cNvPicPr/>
          <p:nvPr/>
        </p:nvPicPr>
        <p:blipFill>
          <a:blip r:embed="rId6"/>
          <a:stretch/>
        </p:blipFill>
        <p:spPr>
          <a:xfrm>
            <a:off x="6656400" y="1036800"/>
            <a:ext cx="2255760" cy="76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User\Рабочий стол\ТРИГГЕРЫ\Овчинникова\МК  4\мяч.png"/>
          <p:cNvPicPr/>
          <p:nvPr/>
        </p:nvPicPr>
        <p:blipFill>
          <a:blip r:embed="rId7"/>
          <a:stretch/>
        </p:blipFill>
        <p:spPr>
          <a:xfrm>
            <a:off x="2286000" y="4214880"/>
            <a:ext cx="795240" cy="804960"/>
          </a:xfrm>
          <a:prstGeom prst="rect">
            <a:avLst/>
          </a:prstGeom>
          <a:ln w="0">
            <a:noFill/>
          </a:ln>
        </p:spPr>
      </p:pic>
      <p:sp>
        <p:nvSpPr>
          <p:cNvPr id="63" name="Блок-схема: знак завершения 14">
            <a:hlinkClick r:id="rId8" action="ppaction://hlinksldjump"/>
          </p:cNvPr>
          <p:cNvSpPr/>
          <p:nvPr/>
        </p:nvSpPr>
        <p:spPr>
          <a:xfrm>
            <a:off x="4014720" y="6286680"/>
            <a:ext cx="1343160" cy="357120"/>
          </a:xfrm>
          <a:prstGeom prst="flowChartTerminator">
            <a:avLst/>
          </a:prstGeom>
          <a:solidFill>
            <a:srgbClr val="ffcc66"/>
          </a:solidFill>
          <a:ln w="25560">
            <a:solidFill>
              <a:srgbClr val="e46c0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апп.mp3" descr=""/>
          <p:cNvPicPr/>
          <p:nvPr/>
        </p:nvPicPr>
        <p:blipFill>
          <a:blip r:embed="rId10"/>
          <a:stretch/>
        </p:blipFill>
        <p:spPr>
          <a:xfrm>
            <a:off x="-304920" y="4000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C:\Documents and Settings\User\Рабочий стол\ТРИГГЕРЫ\Овчинникова\МК  4\сетка.png"/>
          <p:cNvPicPr/>
          <p:nvPr/>
        </p:nvPicPr>
        <p:blipFill>
          <a:blip r:embed="rId11"/>
          <a:stretch/>
        </p:blipFill>
        <p:spPr>
          <a:xfrm>
            <a:off x="3700440" y="3060720"/>
            <a:ext cx="1596960" cy="3821040"/>
          </a:xfrm>
          <a:prstGeom prst="rect">
            <a:avLst/>
          </a:prstGeom>
          <a:ln w="0">
            <a:noFill/>
          </a:ln>
        </p:spPr>
      </p:pic>
      <p:pic>
        <p:nvPicPr>
          <p:cNvPr id="66" name="Блок-схема: процесс 8" descr=""/>
          <p:cNvPicPr/>
          <p:nvPr/>
        </p:nvPicPr>
        <p:blipFill>
          <a:blip r:embed="rId12"/>
          <a:stretch/>
        </p:blipFill>
        <p:spPr>
          <a:xfrm>
            <a:off x="4511520" y="1036800"/>
            <a:ext cx="2114640" cy="761760"/>
          </a:xfrm>
          <a:prstGeom prst="rect">
            <a:avLst/>
          </a:prstGeom>
          <a:ln w="0">
            <a:noFill/>
          </a:ln>
        </p:spPr>
      </p:pic>
      <p:pic>
        <p:nvPicPr>
          <p:cNvPr id="67" name="Блок-схема: процесс 6" descr=""/>
          <p:cNvPicPr/>
          <p:nvPr/>
        </p:nvPicPr>
        <p:blipFill>
          <a:blip r:embed="rId13"/>
          <a:stretch/>
        </p:blipFill>
        <p:spPr>
          <a:xfrm>
            <a:off x="2365200" y="1036800"/>
            <a:ext cx="2121120" cy="761760"/>
          </a:xfrm>
          <a:prstGeom prst="rect">
            <a:avLst/>
          </a:prstGeom>
          <a:ln w="0">
            <a:noFill/>
          </a:ln>
        </p:spPr>
      </p:pic>
      <p:pic>
        <p:nvPicPr>
          <p:cNvPr id="68" name="Блок-схема: процесс 5" descr=""/>
          <p:cNvPicPr/>
          <p:nvPr/>
        </p:nvPicPr>
        <p:blipFill>
          <a:blip r:embed="rId14"/>
          <a:stretch/>
        </p:blipFill>
        <p:spPr>
          <a:xfrm>
            <a:off x="225360" y="1036800"/>
            <a:ext cx="2116080" cy="761760"/>
          </a:xfrm>
          <a:prstGeom prst="rect">
            <a:avLst/>
          </a:prstGeom>
          <a:ln w="0">
            <a:noFill/>
          </a:ln>
        </p:spPr>
      </p:pic>
      <p:pic>
        <p:nvPicPr>
          <p:cNvPr id="69" name="Скругленный прямоугольник 16" descr=""/>
          <p:cNvPicPr/>
          <p:nvPr/>
        </p:nvPicPr>
        <p:blipFill>
          <a:blip r:embed="rId15"/>
          <a:stretch/>
        </p:blipFill>
        <p:spPr>
          <a:xfrm>
            <a:off x="19080" y="55440"/>
            <a:ext cx="1047600" cy="955800"/>
          </a:xfrm>
          <a:prstGeom prst="rect">
            <a:avLst/>
          </a:prstGeom>
          <a:ln w="0">
            <a:noFill/>
          </a:ln>
        </p:spPr>
      </p:pic>
      <p:grpSp>
        <p:nvGrpSpPr>
          <p:cNvPr id="70" name="Овал 18"/>
          <p:cNvGrpSpPr/>
          <p:nvPr/>
        </p:nvGrpSpPr>
        <p:grpSpPr>
          <a:xfrm>
            <a:off x="55440" y="1841400"/>
            <a:ext cx="596880" cy="596880"/>
            <a:chOff x="55440" y="1841400"/>
            <a:chExt cx="596880" cy="596880"/>
          </a:xfrm>
        </p:grpSpPr>
        <p:pic>
          <p:nvPicPr>
            <p:cNvPr id="71" name="Овал 18" descr=""/>
            <p:cNvPicPr/>
            <p:nvPr/>
          </p:nvPicPr>
          <p:blipFill>
            <a:blip r:embed="rId16"/>
            <a:stretch/>
          </p:blipFill>
          <p:spPr>
            <a:xfrm>
              <a:off x="55440" y="184140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55600" y="20415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Овал 19"/>
          <p:cNvGrpSpPr/>
          <p:nvPr/>
        </p:nvGrpSpPr>
        <p:grpSpPr>
          <a:xfrm>
            <a:off x="55440" y="2341440"/>
            <a:ext cx="596880" cy="596880"/>
            <a:chOff x="55440" y="2341440"/>
            <a:chExt cx="596880" cy="596880"/>
          </a:xfrm>
        </p:grpSpPr>
        <p:pic>
          <p:nvPicPr>
            <p:cNvPr id="74" name="Овал 19" descr=""/>
            <p:cNvPicPr/>
            <p:nvPr/>
          </p:nvPicPr>
          <p:blipFill>
            <a:blip r:embed="rId17"/>
            <a:stretch/>
          </p:blipFill>
          <p:spPr>
            <a:xfrm>
              <a:off x="55440" y="234144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55600" y="25416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Овал 20"/>
          <p:cNvGrpSpPr/>
          <p:nvPr/>
        </p:nvGrpSpPr>
        <p:grpSpPr>
          <a:xfrm>
            <a:off x="55440" y="2914560"/>
            <a:ext cx="596880" cy="596880"/>
            <a:chOff x="55440" y="2914560"/>
            <a:chExt cx="596880" cy="596880"/>
          </a:xfrm>
        </p:grpSpPr>
        <p:pic>
          <p:nvPicPr>
            <p:cNvPr id="77" name="Овал 20" descr=""/>
            <p:cNvPicPr/>
            <p:nvPr/>
          </p:nvPicPr>
          <p:blipFill>
            <a:blip r:embed="rId18"/>
            <a:stretch/>
          </p:blipFill>
          <p:spPr>
            <a:xfrm>
              <a:off x="55440" y="291456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55600" y="31129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014E-007 C 0.00295 -0.00648 0.01337 -0.01295 0.01702 -0.01295 C 0.04028 -0.01295 0.06407 0.0895 0.06407 0.19195 C 0.06407 0.14015 0.07604 0.0895 0.08733 0.0895 C 0.09931 0.0895 0.11059 0.14107 0.11059 0.19195 C 0.11059 0.16628 0.1165 0.14015 0.1224 0.14015 C 0.12848 0.14015 0.13438 0.16559 0.13438 0.19195 C 0.13438 0.17877 0.13733 0.16628 0.14028 0.16628 C 0.14341 0.16628 0.14636 0.17946 0.14636 0.19195 C 0.14636 0.18524 0.14792 0.17877 0.14931 0.17877 C 0.15 0.17877 0.15226 0.18524 0.15226 0.19195 C 0.15226 0.18848 0.15313 0.18524 0.15382 0.18524 C 0.15382 0.18617 0.15538 0.18848 0.15538 0.19195 C 0.15538 0.1901 0.15538 0.18848 0.15625 0.18848 C 0.15625 0.18941 0.15695 0.19033 0.15695 0.19195 C 0.15695 0.19103 0.15695 0.1901 0.15695 0.18941 C 0.15782 0.18941 0.15782 0.19033 0.15782 0.19103 C 0.15851 0.19103 0.15851 0.19033 0.15851 0.18941 C 0.15938 0.18941 0.15938 0.19033 0.15938 0.19103 E">
                                      <p:cBhvr>
                                        <p:cTn id="3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5904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32192E-006 L 0.06805 -0.02891 E">
                                      <p:cBhvr>
                                        <p:cTn id="4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1249 L 0.09549 -0.16259 C 0.11441 -0.19589 0.14584 -0.21809 0.18004 -0.22433 C 0.21927 -0.2315 0.25226 -0.22086 0.27726 -0.19543 L 0.39584 -0.08349 E">
                                      <p:cBhvr>
                                        <p:cTn id="4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 -0.03423 L 2.5E-006 4.75486E-006 E">
                                      <p:cBhvr>
                                        <p:cTn id="4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833 C 0.004 -0.01481 0.01806 -0.02128 0.02292 -0.02128 C 0.054 -0.02128 0.08594 0.08117 0.08594 0.18362 C 0.08594 0.13182 0.10191 0.08117 0.11702 0.08117 C 0.13299 0.08117 0.14809 0.13274 0.14809 0.18362 C 0.14809 0.15795 0.15608 0.13182 0.16407 0.13182 C 0.17205 0.13182 0.18004 0.15726 0.18004 0.18362 C 0.18004 0.17044 0.18403 0.15795 0.18802 0.15795 C 0.19202 0.15795 0.19601 0.17113 0.19601 0.18362 C 0.19601 0.17691 0.19809 0.17044 0.2 0.17044 C 0.20104 0.17044 0.204 0.17691 0.204 0.18362 C 0.204 0.18015 0.20504 0.17691 0.20608 0.17691 C 0.20608 0.17784 0.20816 0.18015 0.20816 0.18362 C 0.20816 0.18177 0.20816 0.18015 0.2092 0.18015 C 0.2092 0.18108 0.21025 0.182 0.21025 0.18362 C 0.21025 0.1827 0.21025 0.18177 0.21025 0.18108 C 0.21129 0.18108 0.21129 0.182 0.21129 0.1827 C 0.21233 0.1827 0.21233 0.182 0.21233 0.18108 C 0.21337 0.18108 0.21337 0.182 0.21337 0.1827 E">
                                      <p:cBhvr>
                                        <p:cTn id="7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625 C 0.004 -0.01388 0.01806 -0.02128 0.02292 -0.02128 C 0.054 -0.02128 0.08594 0.0969 0.08594 0.21507 C 0.08594 0.15541 0.10191 0.0969 0.11702 0.0969 C 0.13299 0.0969 0.14809 0.15633 0.14809 0.21507 C 0.14809 0.18547 0.15608 0.15541 0.16407 0.15541 C 0.17205 0.15541 0.18004 0.18478 0.18004 0.21507 C 0.18004 0.19981 0.18403 0.18547 0.18802 0.18547 C 0.19202 0.18547 0.19601 0.20074 0.19601 0.21507 C 0.19601 0.20744 0.19809 0.19981 0.2 0.19981 C 0.20104 0.19981 0.204 0.20744 0.204 0.21507 C 0.204 0.21114 0.20504 0.20744 0.20608 0.20744 C 0.20608 0.20837 0.20816 0.21114 0.20816 0.21507 C 0.20816 0.21299 0.20816 0.21114 0.2092 0.21114 C 0.2092 0.21207 0.21025 0.21322 0.21025 0.21507 C 0.21025 0.21392 0.21025 0.21299 0.21025 0.21207 C 0.21129 0.21207 0.21129 0.21322 0.21129 0.21415 C 0.21233 0.21415 0.21233 0.21322 0.21233 0.21207 C 0.21337 0.21207 0.21337 0.21322 0.21337 0.21415 E">
                                      <p:cBhvr>
                                        <p:cTn id="9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кругленный прямоугольник 1" descr=""/>
          <p:cNvPicPr/>
          <p:nvPr/>
        </p:nvPicPr>
        <p:blipFill>
          <a:blip r:embed="rId2"/>
          <a:stretch/>
        </p:blipFill>
        <p:spPr>
          <a:xfrm>
            <a:off x="798480" y="60480"/>
            <a:ext cx="1706760" cy="993600"/>
          </a:xfrm>
          <a:prstGeom prst="rect">
            <a:avLst/>
          </a:prstGeom>
          <a:ln w="0">
            <a:noFill/>
          </a:ln>
        </p:spPr>
      </p:pic>
      <p:pic>
        <p:nvPicPr>
          <p:cNvPr id="80" name="Скругленный прямоугольник 2" descr=""/>
          <p:cNvPicPr/>
          <p:nvPr/>
        </p:nvPicPr>
        <p:blipFill>
          <a:blip r:embed="rId3"/>
          <a:stretch/>
        </p:blipFill>
        <p:spPr>
          <a:xfrm>
            <a:off x="2419200" y="-176040"/>
            <a:ext cx="6529680" cy="1126800"/>
          </a:xfrm>
          <a:prstGeom prst="rect">
            <a:avLst/>
          </a:prstGeom>
          <a:ln w="0">
            <a:noFill/>
          </a:ln>
        </p:spPr>
      </p:pic>
      <p:pic>
        <p:nvPicPr>
          <p:cNvPr id="81" name="Блок-схема: процесс 3" descr=""/>
          <p:cNvPicPr/>
          <p:nvPr/>
        </p:nvPicPr>
        <p:blipFill>
          <a:blip r:embed="rId4"/>
          <a:stretch/>
        </p:blipFill>
        <p:spPr>
          <a:xfrm>
            <a:off x="6656400" y="1036800"/>
            <a:ext cx="2255760" cy="761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C:\Documents and Settings\User\Рабочий стол\ТРИГГЕРЫ\Овчинникова\МК  4\1.png"/>
          <p:cNvPicPr/>
          <p:nvPr/>
        </p:nvPicPr>
        <p:blipFill>
          <a:blip r:embed="rId5"/>
          <a:stretch/>
        </p:blipFill>
        <p:spPr>
          <a:xfrm>
            <a:off x="285840" y="3429000"/>
            <a:ext cx="2111400" cy="2916360"/>
          </a:xfrm>
          <a:prstGeom prst="rect">
            <a:avLst/>
          </a:prstGeom>
          <a:ln w="0">
            <a:noFill/>
          </a:ln>
        </p:spPr>
      </p:pic>
      <p:pic>
        <p:nvPicPr>
          <p:cNvPr id="83" name="апп.mp3" descr=""/>
          <p:cNvPicPr/>
          <p:nvPr/>
        </p:nvPicPr>
        <p:blipFill>
          <a:blip r:embed="rId6"/>
          <a:stretch/>
        </p:blipFill>
        <p:spPr>
          <a:xfrm>
            <a:off x="-500040" y="4000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C:\Documents and Settings\User\Рабочий стол\ТРИГГЕРЫ\Овчинникова\МК  4\4.png"/>
          <p:cNvPicPr/>
          <p:nvPr/>
        </p:nvPicPr>
        <p:blipFill>
          <a:blip r:embed="rId7"/>
          <a:stretch/>
        </p:blipFill>
        <p:spPr>
          <a:xfrm>
            <a:off x="6740640" y="3643200"/>
            <a:ext cx="1689120" cy="2990880"/>
          </a:xfrm>
          <a:prstGeom prst="rect">
            <a:avLst/>
          </a:prstGeom>
          <a:ln w="0">
            <a:noFill/>
          </a:ln>
        </p:spPr>
      </p:pic>
      <p:pic>
        <p:nvPicPr>
          <p:cNvPr id="85" name="Блок-схема: процесс 5" descr=""/>
          <p:cNvPicPr/>
          <p:nvPr/>
        </p:nvPicPr>
        <p:blipFill>
          <a:blip r:embed="rId8"/>
          <a:stretch/>
        </p:blipFill>
        <p:spPr>
          <a:xfrm>
            <a:off x="4511520" y="1036800"/>
            <a:ext cx="2114640" cy="761760"/>
          </a:xfrm>
          <a:prstGeom prst="rect">
            <a:avLst/>
          </a:prstGeom>
          <a:ln w="0">
            <a:noFill/>
          </a:ln>
        </p:spPr>
      </p:pic>
      <p:pic>
        <p:nvPicPr>
          <p:cNvPr id="86" name="Блок-схема: процесс 4" descr=""/>
          <p:cNvPicPr/>
          <p:nvPr/>
        </p:nvPicPr>
        <p:blipFill>
          <a:blip r:embed="rId9"/>
          <a:stretch/>
        </p:blipFill>
        <p:spPr>
          <a:xfrm>
            <a:off x="2365200" y="1036800"/>
            <a:ext cx="2121120" cy="761760"/>
          </a:xfrm>
          <a:prstGeom prst="rect">
            <a:avLst/>
          </a:prstGeom>
          <a:ln w="0">
            <a:noFill/>
          </a:ln>
        </p:spPr>
      </p:pic>
      <p:pic>
        <p:nvPicPr>
          <p:cNvPr id="87" name="Блок-схема: процесс 6" descr=""/>
          <p:cNvPicPr/>
          <p:nvPr/>
        </p:nvPicPr>
        <p:blipFill>
          <a:blip r:embed="rId10"/>
          <a:stretch/>
        </p:blipFill>
        <p:spPr>
          <a:xfrm>
            <a:off x="225360" y="1036800"/>
            <a:ext cx="2116080" cy="761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User\Рабочий стол\ТРИГГЕРЫ\Овчинникова\МК  4\мяч.png"/>
          <p:cNvPicPr/>
          <p:nvPr/>
        </p:nvPicPr>
        <p:blipFill>
          <a:blip r:embed="rId11"/>
          <a:stretch/>
        </p:blipFill>
        <p:spPr>
          <a:xfrm>
            <a:off x="2286000" y="4214880"/>
            <a:ext cx="795240" cy="804960"/>
          </a:xfrm>
          <a:prstGeom prst="rect">
            <a:avLst/>
          </a:prstGeom>
          <a:ln w="0">
            <a:noFill/>
          </a:ln>
        </p:spPr>
      </p:pic>
      <p:sp>
        <p:nvSpPr>
          <p:cNvPr id="89" name="Блок-схема: знак завершения 12">
            <a:hlinkClick r:id="rId12" action="ppaction://hlinksldjump"/>
          </p:cNvPr>
          <p:cNvSpPr/>
          <p:nvPr/>
        </p:nvSpPr>
        <p:spPr>
          <a:xfrm>
            <a:off x="4014720" y="6286680"/>
            <a:ext cx="1343160" cy="357120"/>
          </a:xfrm>
          <a:prstGeom prst="flowChartTerminator">
            <a:avLst/>
          </a:prstGeom>
          <a:solidFill>
            <a:srgbClr val="ffcc66"/>
          </a:solidFill>
          <a:ln w="25560">
            <a:solidFill>
              <a:srgbClr val="e46c0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3" descr="C:\Documents and Settings\User\Рабочий стол\ТРИГГЕРЫ\Овчинникова\МК  4\сетка.png"/>
          <p:cNvPicPr/>
          <p:nvPr/>
        </p:nvPicPr>
        <p:blipFill>
          <a:blip r:embed="rId14"/>
          <a:stretch/>
        </p:blipFill>
        <p:spPr>
          <a:xfrm>
            <a:off x="3700440" y="3060720"/>
            <a:ext cx="1596960" cy="3821040"/>
          </a:xfrm>
          <a:prstGeom prst="rect">
            <a:avLst/>
          </a:prstGeom>
          <a:ln w="0">
            <a:noFill/>
          </a:ln>
        </p:spPr>
      </p:pic>
      <p:pic>
        <p:nvPicPr>
          <p:cNvPr id="91" name="Скругленный прямоугольник 15" descr=""/>
          <p:cNvPicPr/>
          <p:nvPr/>
        </p:nvPicPr>
        <p:blipFill>
          <a:blip r:embed="rId15"/>
          <a:stretch/>
        </p:blipFill>
        <p:spPr>
          <a:xfrm>
            <a:off x="19080" y="55440"/>
            <a:ext cx="1047600" cy="955800"/>
          </a:xfrm>
          <a:prstGeom prst="rect">
            <a:avLst/>
          </a:prstGeom>
          <a:ln w="0">
            <a:noFill/>
          </a:ln>
        </p:spPr>
      </p:pic>
      <p:grpSp>
        <p:nvGrpSpPr>
          <p:cNvPr id="92" name="Овал 16"/>
          <p:cNvGrpSpPr/>
          <p:nvPr/>
        </p:nvGrpSpPr>
        <p:grpSpPr>
          <a:xfrm>
            <a:off x="55440" y="1841400"/>
            <a:ext cx="596880" cy="596880"/>
            <a:chOff x="55440" y="1841400"/>
            <a:chExt cx="596880" cy="596880"/>
          </a:xfrm>
        </p:grpSpPr>
        <p:pic>
          <p:nvPicPr>
            <p:cNvPr id="93" name="Овал 16" descr=""/>
            <p:cNvPicPr/>
            <p:nvPr/>
          </p:nvPicPr>
          <p:blipFill>
            <a:blip r:embed="rId16"/>
            <a:stretch/>
          </p:blipFill>
          <p:spPr>
            <a:xfrm>
              <a:off x="55440" y="184140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55600" y="20415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Овал 17"/>
          <p:cNvGrpSpPr/>
          <p:nvPr/>
        </p:nvGrpSpPr>
        <p:grpSpPr>
          <a:xfrm>
            <a:off x="55440" y="2341440"/>
            <a:ext cx="596880" cy="596880"/>
            <a:chOff x="55440" y="2341440"/>
            <a:chExt cx="596880" cy="596880"/>
          </a:xfrm>
        </p:grpSpPr>
        <p:pic>
          <p:nvPicPr>
            <p:cNvPr id="96" name="Овал 17" descr=""/>
            <p:cNvPicPr/>
            <p:nvPr/>
          </p:nvPicPr>
          <p:blipFill>
            <a:blip r:embed="rId17"/>
            <a:stretch/>
          </p:blipFill>
          <p:spPr>
            <a:xfrm>
              <a:off x="55440" y="234144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55600" y="25416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Овал 18"/>
          <p:cNvGrpSpPr/>
          <p:nvPr/>
        </p:nvGrpSpPr>
        <p:grpSpPr>
          <a:xfrm>
            <a:off x="55440" y="2914560"/>
            <a:ext cx="596880" cy="596880"/>
            <a:chOff x="55440" y="2914560"/>
            <a:chExt cx="596880" cy="596880"/>
          </a:xfrm>
        </p:grpSpPr>
        <p:pic>
          <p:nvPicPr>
            <p:cNvPr id="99" name="Овал 18" descr=""/>
            <p:cNvPicPr/>
            <p:nvPr/>
          </p:nvPicPr>
          <p:blipFill>
            <a:blip r:embed="rId18"/>
            <a:stretch/>
          </p:blipFill>
          <p:spPr>
            <a:xfrm>
              <a:off x="55440" y="291456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55600" y="31129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014E-007 C 0.00295 -0.00648 0.01337 -0.01295 0.01702 -0.01295 C 0.04028 -0.01295 0.06407 0.0895 0.06407 0.19195 C 0.06407 0.14015 0.07604 0.0895 0.08733 0.0895 C 0.09931 0.0895 0.11059 0.14107 0.11059 0.19195 C 0.11059 0.16628 0.1165 0.14015 0.1224 0.14015 C 0.12848 0.14015 0.13438 0.16559 0.13438 0.19195 C 0.13438 0.17877 0.13733 0.16628 0.14028 0.16628 C 0.14341 0.16628 0.14636 0.17946 0.14636 0.19195 C 0.14636 0.18524 0.14792 0.17877 0.14931 0.17877 C 0.15 0.17877 0.15226 0.18524 0.15226 0.19195 C 0.15226 0.18848 0.15313 0.18524 0.15382 0.18524 C 0.15382 0.18617 0.15538 0.18848 0.15538 0.19195 C 0.15538 0.1901 0.15538 0.18848 0.15625 0.18848 C 0.15625 0.18941 0.15695 0.19033 0.15695 0.19195 C 0.15695 0.19103 0.15695 0.1901 0.15695 0.18941 C 0.15782 0.18941 0.15782 0.19033 0.15782 0.19103 C 0.15851 0.19103 0.15851 0.19033 0.15851 0.18941 C 0.15938 0.18941 0.15938 0.19033 0.15938 0.19103 E">
                                      <p:cBhvr>
                                        <p:cTn id="12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5904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-0.02359 L 0.04514 -0.11008 E">
                                      <p:cBhvr>
                                        <p:cTn id="13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97 -0.12442 L -0.00104 -0.01295 E">
                                      <p:cBhvr>
                                        <p:cTn id="138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9722E-006 L 0.08211 -0.14848 C 0.0993 -0.18155 0.12812 -0.20329 0.15937 -0.20907 C 0.19548 -0.21554 0.22586 -0.20444 0.24896 -0.17854 L 0.35902 -0.06522 E">
                                      <p:cBhvr>
                                        <p:cTn id="140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625 C 0.004 -0.01388 0.01806 -0.02128 0.02292 -0.02128 C 0.054 -0.02128 0.08594 0.0969 0.08594 0.21507 C 0.08594 0.15541 0.10191 0.0969 0.11702 0.0969 C 0.13299 0.0969 0.14809 0.15633 0.14809 0.21507 C 0.14809 0.18547 0.15608 0.15541 0.16407 0.15541 C 0.17205 0.15541 0.18004 0.18478 0.18004 0.21507 C 0.18004 0.19981 0.18403 0.18547 0.18802 0.18547 C 0.19202 0.18547 0.19601 0.20074 0.19601 0.21507 C 0.19601 0.20744 0.19809 0.19981 0.2 0.19981 C 0.20104 0.19981 0.204 0.20744 0.204 0.21507 C 0.204 0.21114 0.20504 0.20744 0.20608 0.20744 C 0.20608 0.20837 0.20816 0.21114 0.20816 0.21507 C 0.20816 0.21299 0.20816 0.21114 0.2092 0.21114 C 0.2092 0.21207 0.21025 0.21322 0.21025 0.21507 C 0.21025 0.21392 0.21025 0.21299 0.21025 0.21207 C 0.21129 0.21207 0.21129 0.21322 0.21129 0.21415 C 0.21233 0.21415 0.21233 0.21322 0.21233 0.21207 C 0.21337 0.21207 0.21337 0.21322 0.21337 0.21415 E">
                                      <p:cBhvr>
                                        <p:cTn id="17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833 C 0.004 -0.01481 0.01806 -0.02128 0.02292 -0.02128 C 0.054 -0.02128 0.08594 0.08117 0.08594 0.18362 C 0.08594 0.13182 0.10191 0.08117 0.11702 0.08117 C 0.13299 0.08117 0.14809 0.13274 0.14809 0.18362 C 0.14809 0.15795 0.15608 0.13182 0.16407 0.13182 C 0.17205 0.13182 0.18004 0.15726 0.18004 0.18362 C 0.18004 0.17044 0.18403 0.15795 0.18802 0.15795 C 0.19202 0.15795 0.19601 0.17113 0.19601 0.18362 C 0.19601 0.17691 0.19809 0.17044 0.2 0.17044 C 0.20104 0.17044 0.204 0.17691 0.204 0.18362 C 0.204 0.18015 0.20504 0.17691 0.20608 0.17691 C 0.20608 0.17784 0.20816 0.18015 0.20816 0.18362 C 0.20816 0.18177 0.20816 0.18015 0.2092 0.18015 C 0.2092 0.18108 0.21025 0.182 0.21025 0.18362 C 0.21025 0.1827 0.21025 0.18177 0.21025 0.18108 C 0.21129 0.18108 0.21129 0.182 0.21129 0.1827 C 0.21233 0.1827 0.21233 0.182 0.21233 0.18108 C 0.21337 0.18108 0.21337 0.182 0.21337 0.1827 E">
                                      <p:cBhvr>
                                        <p:cTn id="18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Блок-схема: процесс 3" descr=""/>
          <p:cNvPicPr/>
          <p:nvPr/>
        </p:nvPicPr>
        <p:blipFill>
          <a:blip r:embed="rId2"/>
          <a:stretch/>
        </p:blipFill>
        <p:spPr>
          <a:xfrm>
            <a:off x="6645240" y="1036800"/>
            <a:ext cx="2266920" cy="761760"/>
          </a:xfrm>
          <a:prstGeom prst="rect">
            <a:avLst/>
          </a:prstGeom>
          <a:ln w="0">
            <a:noFill/>
          </a:ln>
        </p:spPr>
      </p:pic>
      <p:pic>
        <p:nvPicPr>
          <p:cNvPr id="102" name="Скругленный прямоугольник 5" descr=""/>
          <p:cNvPicPr/>
          <p:nvPr/>
        </p:nvPicPr>
        <p:blipFill>
          <a:blip r:embed="rId3"/>
          <a:stretch/>
        </p:blipFill>
        <p:spPr>
          <a:xfrm>
            <a:off x="7223040" y="60480"/>
            <a:ext cx="1708200" cy="993600"/>
          </a:xfrm>
          <a:prstGeom prst="rect">
            <a:avLst/>
          </a:prstGeom>
          <a:ln w="0">
            <a:noFill/>
          </a:ln>
        </p:spPr>
      </p:pic>
      <p:pic>
        <p:nvPicPr>
          <p:cNvPr id="103" name="Скругленный прямоугольник 6" descr=""/>
          <p:cNvPicPr/>
          <p:nvPr/>
        </p:nvPicPr>
        <p:blipFill>
          <a:blip r:embed="rId4"/>
          <a:stretch/>
        </p:blipFill>
        <p:spPr>
          <a:xfrm>
            <a:off x="884160" y="171360"/>
            <a:ext cx="6278760" cy="84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Documents and Settings\User\Рабочий стол\ТРИГГЕРЫ\Овчинникова\МК  4\2.png"/>
          <p:cNvPicPr/>
          <p:nvPr/>
        </p:nvPicPr>
        <p:blipFill>
          <a:blip r:embed="rId5"/>
          <a:stretch/>
        </p:blipFill>
        <p:spPr>
          <a:xfrm>
            <a:off x="6500880" y="3714840"/>
            <a:ext cx="2374920" cy="2722320"/>
          </a:xfrm>
          <a:prstGeom prst="rect">
            <a:avLst/>
          </a:prstGeom>
          <a:ln w="0">
            <a:noFill/>
          </a:ln>
        </p:spPr>
      </p:pic>
      <p:sp>
        <p:nvSpPr>
          <p:cNvPr id="105" name="Блок-схема: знак завершения 9">
            <a:hlinkClick r:id="rId6" action="ppaction://hlinksldjump"/>
          </p:cNvPr>
          <p:cNvSpPr/>
          <p:nvPr/>
        </p:nvSpPr>
        <p:spPr>
          <a:xfrm>
            <a:off x="4071960" y="6286680"/>
            <a:ext cx="1343160" cy="357120"/>
          </a:xfrm>
          <a:prstGeom prst="flowChartTerminator">
            <a:avLst/>
          </a:prstGeom>
          <a:solidFill>
            <a:srgbClr val="ffcc66"/>
          </a:solidFill>
          <a:ln w="25560">
            <a:solidFill>
              <a:srgbClr val="e46c0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Блок-схема: процесс 2" descr=""/>
          <p:cNvPicPr/>
          <p:nvPr/>
        </p:nvPicPr>
        <p:blipFill>
          <a:blip r:embed="rId8"/>
          <a:stretch/>
        </p:blipFill>
        <p:spPr>
          <a:xfrm>
            <a:off x="4511520" y="1036800"/>
            <a:ext cx="2114640" cy="761760"/>
          </a:xfrm>
          <a:prstGeom prst="rect">
            <a:avLst/>
          </a:prstGeom>
          <a:ln w="0">
            <a:noFill/>
          </a:ln>
        </p:spPr>
      </p:pic>
      <p:pic>
        <p:nvPicPr>
          <p:cNvPr id="107" name="Блок-схема: процесс 4" descr=""/>
          <p:cNvPicPr/>
          <p:nvPr/>
        </p:nvPicPr>
        <p:blipFill>
          <a:blip r:embed="rId9"/>
          <a:stretch/>
        </p:blipFill>
        <p:spPr>
          <a:xfrm>
            <a:off x="2365200" y="1036800"/>
            <a:ext cx="2121120" cy="761760"/>
          </a:xfrm>
          <a:prstGeom prst="rect">
            <a:avLst/>
          </a:prstGeom>
          <a:ln w="0">
            <a:noFill/>
          </a:ln>
        </p:spPr>
      </p:pic>
      <p:pic>
        <p:nvPicPr>
          <p:cNvPr id="108" name="Блок-схема: процесс 1" descr=""/>
          <p:cNvPicPr/>
          <p:nvPr/>
        </p:nvPicPr>
        <p:blipFill>
          <a:blip r:embed="rId10"/>
          <a:stretch/>
        </p:blipFill>
        <p:spPr>
          <a:xfrm>
            <a:off x="225360" y="1036800"/>
            <a:ext cx="2103480" cy="761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3" descr="C:\Documents and Settings\User\Рабочий стол\ТРИГГЕРЫ\Овчинникова\МК  4\сетка.png"/>
          <p:cNvPicPr/>
          <p:nvPr/>
        </p:nvPicPr>
        <p:blipFill>
          <a:blip r:embed="rId11"/>
          <a:stretch/>
        </p:blipFill>
        <p:spPr>
          <a:xfrm>
            <a:off x="3700440" y="3060720"/>
            <a:ext cx="1596960" cy="3821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:\Documents and Settings\User\Рабочий стол\ТРИГГЕРЫ\Овчинникова\МК  4\3.png"/>
          <p:cNvPicPr/>
          <p:nvPr/>
        </p:nvPicPr>
        <p:blipFill>
          <a:blip r:embed="rId12"/>
          <a:stretch/>
        </p:blipFill>
        <p:spPr>
          <a:xfrm>
            <a:off x="214200" y="2941560"/>
            <a:ext cx="2286000" cy="3532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Documents and Settings\User\Рабочий стол\ТРИГГЕРЫ\Овчинникова\МК  4\мяч.png"/>
          <p:cNvPicPr/>
          <p:nvPr/>
        </p:nvPicPr>
        <p:blipFill>
          <a:blip r:embed="rId13"/>
          <a:stretch/>
        </p:blipFill>
        <p:spPr>
          <a:xfrm rot="6252600">
            <a:off x="5948280" y="3582720"/>
            <a:ext cx="795240" cy="804960"/>
          </a:xfrm>
          <a:prstGeom prst="rect">
            <a:avLst/>
          </a:prstGeom>
          <a:ln w="0">
            <a:noFill/>
          </a:ln>
        </p:spPr>
      </p:pic>
      <p:pic>
        <p:nvPicPr>
          <p:cNvPr id="112" name="апп.mp3" descr=""/>
          <p:cNvPicPr/>
          <p:nvPr/>
        </p:nvPicPr>
        <p:blipFill>
          <a:blip r:embed="rId14"/>
          <a:stretch/>
        </p:blipFill>
        <p:spPr>
          <a:xfrm>
            <a:off x="9358200" y="5500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Скругленный прямоугольник 15" descr=""/>
          <p:cNvPicPr/>
          <p:nvPr/>
        </p:nvPicPr>
        <p:blipFill>
          <a:blip r:embed="rId15"/>
          <a:stretch/>
        </p:blipFill>
        <p:spPr>
          <a:xfrm>
            <a:off x="0" y="42840"/>
            <a:ext cx="1042920" cy="968400"/>
          </a:xfrm>
          <a:prstGeom prst="rect">
            <a:avLst/>
          </a:prstGeom>
          <a:ln w="0">
            <a:noFill/>
          </a:ln>
        </p:spPr>
      </p:pic>
      <p:grpSp>
        <p:nvGrpSpPr>
          <p:cNvPr id="114" name="Овал 16"/>
          <p:cNvGrpSpPr/>
          <p:nvPr/>
        </p:nvGrpSpPr>
        <p:grpSpPr>
          <a:xfrm>
            <a:off x="8412120" y="1841400"/>
            <a:ext cx="598680" cy="596880"/>
            <a:chOff x="8412120" y="1841400"/>
            <a:chExt cx="598680" cy="596880"/>
          </a:xfrm>
        </p:grpSpPr>
        <p:pic>
          <p:nvPicPr>
            <p:cNvPr id="115" name="Овал 16" descr=""/>
            <p:cNvPicPr/>
            <p:nvPr/>
          </p:nvPicPr>
          <p:blipFill>
            <a:blip r:embed="rId16"/>
            <a:stretch/>
          </p:blipFill>
          <p:spPr>
            <a:xfrm>
              <a:off x="8412120" y="1841400"/>
              <a:ext cx="5986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8613720" y="204156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Овал 17"/>
          <p:cNvGrpSpPr/>
          <p:nvPr/>
        </p:nvGrpSpPr>
        <p:grpSpPr>
          <a:xfrm>
            <a:off x="8412120" y="2341440"/>
            <a:ext cx="598680" cy="596880"/>
            <a:chOff x="8412120" y="2341440"/>
            <a:chExt cx="598680" cy="596880"/>
          </a:xfrm>
        </p:grpSpPr>
        <p:pic>
          <p:nvPicPr>
            <p:cNvPr id="118" name="Овал 17" descr=""/>
            <p:cNvPicPr/>
            <p:nvPr/>
          </p:nvPicPr>
          <p:blipFill>
            <a:blip r:embed="rId17"/>
            <a:stretch/>
          </p:blipFill>
          <p:spPr>
            <a:xfrm>
              <a:off x="8412120" y="2341440"/>
              <a:ext cx="5986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8613720" y="254160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Овал 18"/>
          <p:cNvGrpSpPr/>
          <p:nvPr/>
        </p:nvGrpSpPr>
        <p:grpSpPr>
          <a:xfrm>
            <a:off x="8412120" y="2914560"/>
            <a:ext cx="598680" cy="596880"/>
            <a:chOff x="8412120" y="2914560"/>
            <a:chExt cx="598680" cy="596880"/>
          </a:xfrm>
        </p:grpSpPr>
        <p:pic>
          <p:nvPicPr>
            <p:cNvPr id="121" name="Овал 18" descr=""/>
            <p:cNvPicPr/>
            <p:nvPr/>
          </p:nvPicPr>
          <p:blipFill>
            <a:blip r:embed="rId18"/>
            <a:stretch/>
          </p:blipFill>
          <p:spPr>
            <a:xfrm>
              <a:off x="8412120" y="2914560"/>
              <a:ext cx="5986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8613720" y="311292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6 -0.018 -0.02131 -0.023 -0.02131 C -0.054 -0.02131 -0.086 0.1452 -0.086 0.31171 C -0.086 0.22779 -0.102 0.1452 -0.117 0.1452 C -0.133 0.1452 -0.148 0.22912 -0.148 0.31171 C -0.148 0.27041 -0.156 0.22779 -0.164 0.22779 C -0.172 0.22779 -0.18 0.26909 -0.18 0.31171 C -0.18 0.2904 -0.184 0.27041 -0.188 0.27041 C -0.192 0.27041 -0.196 0.29172 -0.196 0.31171 C -0.196 0.30105 -0.198 0.2904 -0.2 0.2904 C -0.201 0.2904 -0.204 0.30106 -0.204 0.31171 C -0.204 0.30638 -0.205 0.30105 -0.206 0.30105 C -0.206 0.29972 -0.208 0.30638 -0.208 0.31171 C -0.208 0.30905 -0.208 0.30638 -0.209 0.30638 C -0.209 0.30771 -0.21 0.30904 -0.21 0.31171 C -0.21 0.31038 -0.21 0.30905 -0.21 0.30771 C -0.211 0.30771 -0.211 0.30904 -0.211 0.31037 C -0.212 0.31037 -0.212 0.30904 -0.212 0.30771 C -0.213 0.30771 -0.213 0.30904 -0.213 0.31037 E">
                                      <p:cBhvr>
                                        <p:cTn id="21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03608E-006 C -0.00486 -0.01064 -0.02187 -0.02128 -0.0276 -0.02128 C -0.0651 -0.02128 -0.10364 0.14524 -0.10364 0.31175 C -0.10364 0.2278 -0.12274 0.14524 -0.14097 0.14524 C -0.16024 0.14524 -0.17847 0.22919 -0.17847 0.31175 C -0.17847 0.27035 -0.18802 0.2278 -0.19757 0.2278 C -0.20729 0.2278 -0.21684 0.2692 -0.21684 0.31175 C -0.21684 0.29047 -0.2217 0.27035 -0.22656 0.27035 C -0.23125 0.27035 -0.23611 0.29163 -0.23611 0.31175 C -0.23611 0.30111 -0.23871 0.29047 -0.24097 0.29047 C -0.24218 0.29047 -0.24566 0.30111 -0.24566 0.31175 C -0.24566 0.30643 -0.24704 0.30111 -0.24826 0.30111 C -0.24826 0.29972 -0.25069 0.30643 -0.25069 0.31175 C -0.25069 0.30897 -0.25069 0.30643 -0.25208 0.30643 C -0.25208 0.30782 -0.25329 0.30921 -0.25329 0.31175 C -0.25329 0.31036 -0.25329 0.30897 -0.25329 0.30782 C -0.25451 0.30782 -0.25451 0.30921 -0.25451 0.31059 C -0.25573 0.31059 -0.25573 0.30921 -0.25573 0.30782 C -0.25694 0.30782 -0.25694 0.30921 -0.25694 0.31059 E">
                                      <p:cBhvr>
                                        <p:cTn id="231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590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70213E-006 L -0.05729 -0.05111 E">
                                      <p:cBhvr>
                                        <p:cTn id="241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23 L -0.09114 -0.13043 C -0.11024 -0.15911 -0.14184 -0.18201 -0.17725 -0.19264 C -0.21753 -0.20583 -0.30434 -0.14315 -0.33576 -0.10731 L -0.41475 0.04371 E">
                                      <p:cBhvr>
                                        <p:cTn id="243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29 -0.05111 L -0.00226 -0.00902 E">
                                      <p:cBhvr>
                                        <p:cTn id="260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6 -0.018 -0.02131 -0.023 -0.02131 C -0.054 -0.02131 -0.086 0.1452 -0.086 0.31171 C -0.086 0.22779 -0.102 0.1452 -0.117 0.1452 C -0.133 0.1452 -0.148 0.22912 -0.148 0.31171 C -0.148 0.27041 -0.156 0.22779 -0.164 0.22779 C -0.172 0.22779 -0.18 0.26909 -0.18 0.31171 C -0.18 0.2904 -0.184 0.27041 -0.188 0.27041 C -0.192 0.27041 -0.196 0.29172 -0.196 0.31171 C -0.196 0.30105 -0.198 0.2904 -0.2 0.2904 C -0.201 0.2904 -0.204 0.30106 -0.204 0.31171 C -0.204 0.30638 -0.205 0.30105 -0.206 0.30105 C -0.206 0.29972 -0.208 0.30638 -0.208 0.31171 C -0.208 0.30905 -0.208 0.30638 -0.209 0.30638 C -0.209 0.30771 -0.21 0.30904 -0.21 0.31171 C -0.21 0.31038 -0.21 0.30905 -0.21 0.30771 C -0.211 0.30771 -0.211 0.30904 -0.211 0.31037 C -0.212 0.31037 -0.212 0.30904 -0.212 0.30771 C -0.213 0.30771 -0.213 0.30904 -0.213 0.31037 E">
                                      <p:cBhvr>
                                        <p:cTn id="27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Блок-схема: процесс 1" descr=""/>
          <p:cNvPicPr/>
          <p:nvPr/>
        </p:nvPicPr>
        <p:blipFill>
          <a:blip r:embed="rId2"/>
          <a:stretch/>
        </p:blipFill>
        <p:spPr>
          <a:xfrm>
            <a:off x="6645240" y="1036800"/>
            <a:ext cx="2266920" cy="761760"/>
          </a:xfrm>
          <a:prstGeom prst="rect">
            <a:avLst/>
          </a:prstGeom>
          <a:ln w="0">
            <a:noFill/>
          </a:ln>
        </p:spPr>
      </p:pic>
      <p:pic>
        <p:nvPicPr>
          <p:cNvPr id="124" name="Скругленный прямоугольник 2" descr=""/>
          <p:cNvPicPr/>
          <p:nvPr/>
        </p:nvPicPr>
        <p:blipFill>
          <a:blip r:embed="rId3"/>
          <a:stretch/>
        </p:blipFill>
        <p:spPr>
          <a:xfrm>
            <a:off x="7186680" y="60480"/>
            <a:ext cx="1708200" cy="993600"/>
          </a:xfrm>
          <a:prstGeom prst="rect">
            <a:avLst/>
          </a:prstGeom>
          <a:ln w="0">
            <a:noFill/>
          </a:ln>
        </p:spPr>
      </p:pic>
      <p:pic>
        <p:nvPicPr>
          <p:cNvPr id="125" name="Скругленный прямоугольник 3" descr=""/>
          <p:cNvPicPr/>
          <p:nvPr/>
        </p:nvPicPr>
        <p:blipFill>
          <a:blip r:embed="rId4"/>
          <a:stretch/>
        </p:blipFill>
        <p:spPr>
          <a:xfrm>
            <a:off x="817560" y="171360"/>
            <a:ext cx="6418440" cy="846360"/>
          </a:xfrm>
          <a:prstGeom prst="rect">
            <a:avLst/>
          </a:prstGeom>
          <a:ln w="0">
            <a:noFill/>
          </a:ln>
        </p:spPr>
      </p:pic>
      <p:sp>
        <p:nvSpPr>
          <p:cNvPr id="126" name="Блок-схема: знак завершения 4">
            <a:hlinkClick r:id="rId5" action="ppaction://hlinksldjump"/>
          </p:cNvPr>
          <p:cNvSpPr/>
          <p:nvPr/>
        </p:nvSpPr>
        <p:spPr>
          <a:xfrm>
            <a:off x="4071960" y="6286680"/>
            <a:ext cx="1343160" cy="357120"/>
          </a:xfrm>
          <a:prstGeom prst="flowChartTerminator">
            <a:avLst/>
          </a:prstGeom>
          <a:solidFill>
            <a:srgbClr val="ffcc66"/>
          </a:solidFill>
          <a:ln w="25560">
            <a:solidFill>
              <a:srgbClr val="e46c0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Блок-схема: процесс 5" descr=""/>
          <p:cNvPicPr/>
          <p:nvPr/>
        </p:nvPicPr>
        <p:blipFill>
          <a:blip r:embed="rId7"/>
          <a:stretch/>
        </p:blipFill>
        <p:spPr>
          <a:xfrm>
            <a:off x="4511520" y="1036800"/>
            <a:ext cx="2114640" cy="761760"/>
          </a:xfrm>
          <a:prstGeom prst="rect">
            <a:avLst/>
          </a:prstGeom>
          <a:ln w="0">
            <a:noFill/>
          </a:ln>
        </p:spPr>
      </p:pic>
      <p:pic>
        <p:nvPicPr>
          <p:cNvPr id="128" name="Блок-схема: процесс 6" descr=""/>
          <p:cNvPicPr/>
          <p:nvPr/>
        </p:nvPicPr>
        <p:blipFill>
          <a:blip r:embed="rId8"/>
          <a:stretch/>
        </p:blipFill>
        <p:spPr>
          <a:xfrm>
            <a:off x="225360" y="1036800"/>
            <a:ext cx="2116080" cy="761760"/>
          </a:xfrm>
          <a:prstGeom prst="rect">
            <a:avLst/>
          </a:prstGeom>
          <a:ln w="0">
            <a:noFill/>
          </a:ln>
        </p:spPr>
      </p:pic>
      <p:pic>
        <p:nvPicPr>
          <p:cNvPr id="129" name="Блок-схема: процесс 7" descr=""/>
          <p:cNvPicPr/>
          <p:nvPr/>
        </p:nvPicPr>
        <p:blipFill>
          <a:blip r:embed="rId9"/>
          <a:stretch/>
        </p:blipFill>
        <p:spPr>
          <a:xfrm>
            <a:off x="2365200" y="1036800"/>
            <a:ext cx="2109960" cy="761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3" descr="C:\Documents and Settings\User\Рабочий стол\ТРИГГЕРЫ\Овчинникова\МК  4\сетка.png"/>
          <p:cNvPicPr/>
          <p:nvPr/>
        </p:nvPicPr>
        <p:blipFill>
          <a:blip r:embed="rId10"/>
          <a:stretch/>
        </p:blipFill>
        <p:spPr>
          <a:xfrm>
            <a:off x="3700440" y="3060720"/>
            <a:ext cx="1596960" cy="3821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C:\Documents and Settings\User\Рабочий стол\ТРИГГЕРЫ\Овчинникова\МК  4\4.png"/>
          <p:cNvPicPr/>
          <p:nvPr/>
        </p:nvPicPr>
        <p:blipFill>
          <a:blip r:embed="rId11"/>
          <a:stretch/>
        </p:blipFill>
        <p:spPr>
          <a:xfrm>
            <a:off x="6954840" y="3643200"/>
            <a:ext cx="1689120" cy="2990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:\Documents and Settings\User\Рабочий стол\ТРИГГЕРЫ\Овчинникова\МК  4\1.png"/>
          <p:cNvPicPr/>
          <p:nvPr/>
        </p:nvPicPr>
        <p:blipFill>
          <a:blip r:embed="rId12"/>
          <a:stretch/>
        </p:blipFill>
        <p:spPr>
          <a:xfrm>
            <a:off x="285840" y="3429000"/>
            <a:ext cx="2111400" cy="291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Documents and Settings\User\Рабочий стол\ТРИГГЕРЫ\Овчинникова\МК  4\мяч.png"/>
          <p:cNvPicPr/>
          <p:nvPr/>
        </p:nvPicPr>
        <p:blipFill>
          <a:blip r:embed="rId13"/>
          <a:stretch/>
        </p:blipFill>
        <p:spPr>
          <a:xfrm rot="6252600">
            <a:off x="5948280" y="3582720"/>
            <a:ext cx="795240" cy="804960"/>
          </a:xfrm>
          <a:prstGeom prst="rect">
            <a:avLst/>
          </a:prstGeom>
          <a:ln w="0">
            <a:noFill/>
          </a:ln>
        </p:spPr>
      </p:pic>
      <p:pic>
        <p:nvPicPr>
          <p:cNvPr id="134" name="апп.mp3" descr=""/>
          <p:cNvPicPr/>
          <p:nvPr/>
        </p:nvPicPr>
        <p:blipFill>
          <a:blip r:embed="rId14"/>
          <a:stretch/>
        </p:blipFill>
        <p:spPr>
          <a:xfrm>
            <a:off x="9358200" y="471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Скругленный прямоугольник 14" descr=""/>
          <p:cNvPicPr/>
          <p:nvPr/>
        </p:nvPicPr>
        <p:blipFill>
          <a:blip r:embed="rId15"/>
          <a:stretch/>
        </p:blipFill>
        <p:spPr>
          <a:xfrm>
            <a:off x="0" y="42840"/>
            <a:ext cx="1042920" cy="968400"/>
          </a:xfrm>
          <a:prstGeom prst="rect">
            <a:avLst/>
          </a:prstGeom>
          <a:ln w="0">
            <a:noFill/>
          </a:ln>
        </p:spPr>
      </p:pic>
      <p:grpSp>
        <p:nvGrpSpPr>
          <p:cNvPr id="136" name="Овал 15"/>
          <p:cNvGrpSpPr/>
          <p:nvPr/>
        </p:nvGrpSpPr>
        <p:grpSpPr>
          <a:xfrm>
            <a:off x="8345520" y="1841400"/>
            <a:ext cx="590400" cy="596880"/>
            <a:chOff x="8345520" y="1841400"/>
            <a:chExt cx="590400" cy="596880"/>
          </a:xfrm>
        </p:grpSpPr>
        <p:pic>
          <p:nvPicPr>
            <p:cNvPr id="137" name="Овал 15" descr=""/>
            <p:cNvPicPr/>
            <p:nvPr/>
          </p:nvPicPr>
          <p:blipFill>
            <a:blip r:embed="rId16"/>
            <a:stretch/>
          </p:blipFill>
          <p:spPr>
            <a:xfrm>
              <a:off x="8345520" y="1841400"/>
              <a:ext cx="590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542440" y="20415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Овал 16"/>
          <p:cNvGrpSpPr/>
          <p:nvPr/>
        </p:nvGrpSpPr>
        <p:grpSpPr>
          <a:xfrm>
            <a:off x="8345520" y="2341440"/>
            <a:ext cx="590400" cy="596880"/>
            <a:chOff x="8345520" y="2341440"/>
            <a:chExt cx="590400" cy="596880"/>
          </a:xfrm>
        </p:grpSpPr>
        <p:pic>
          <p:nvPicPr>
            <p:cNvPr id="140" name="Овал 16" descr=""/>
            <p:cNvPicPr/>
            <p:nvPr/>
          </p:nvPicPr>
          <p:blipFill>
            <a:blip r:embed="rId17"/>
            <a:stretch/>
          </p:blipFill>
          <p:spPr>
            <a:xfrm>
              <a:off x="8345520" y="2341440"/>
              <a:ext cx="590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542440" y="25416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Овал 17"/>
          <p:cNvGrpSpPr/>
          <p:nvPr/>
        </p:nvGrpSpPr>
        <p:grpSpPr>
          <a:xfrm>
            <a:off x="8345520" y="2914560"/>
            <a:ext cx="590400" cy="596880"/>
            <a:chOff x="8345520" y="2914560"/>
            <a:chExt cx="590400" cy="596880"/>
          </a:xfrm>
        </p:grpSpPr>
        <p:pic>
          <p:nvPicPr>
            <p:cNvPr id="143" name="Овал 17" descr=""/>
            <p:cNvPicPr/>
            <p:nvPr/>
          </p:nvPicPr>
          <p:blipFill>
            <a:blip r:embed="rId18"/>
            <a:stretch/>
          </p:blipFill>
          <p:spPr>
            <a:xfrm>
              <a:off x="8345520" y="2914560"/>
              <a:ext cx="590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8542440" y="31129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0" dur="indefinite" restart="never" nodeType="tmRoot">
          <p:childTnLst>
            <p:seq>
              <p:cTn id="28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6 -0.018 -0.02131 -0.023 -0.02131 C -0.054 -0.02131 -0.086 0.1452 -0.086 0.31171 C -0.086 0.22779 -0.102 0.1452 -0.117 0.1452 C -0.133 0.1452 -0.148 0.22912 -0.148 0.31171 C -0.148 0.27041 -0.156 0.22779 -0.164 0.22779 C -0.172 0.22779 -0.18 0.26909 -0.18 0.31171 C -0.18 0.2904 -0.184 0.27041 -0.188 0.27041 C -0.192 0.27041 -0.196 0.29172 -0.196 0.31171 C -0.196 0.30105 -0.198 0.2904 -0.2 0.2904 C -0.201 0.2904 -0.204 0.30106 -0.204 0.31171 C -0.204 0.30638 -0.205 0.30105 -0.206 0.30105 C -0.206 0.29972 -0.208 0.30638 -0.208 0.31171 C -0.208 0.30905 -0.208 0.30638 -0.209 0.30638 C -0.209 0.30771 -0.21 0.30904 -0.21 0.31171 C -0.21 0.31038 -0.21 0.30905 -0.21 0.30771 C -0.211 0.30771 -0.211 0.30904 -0.211 0.31037 C -0.212 0.31037 -0.212 0.30904 -0.212 0.30771 C -0.213 0.30771 -0.213 0.30904 -0.213 0.31037 E">
                                      <p:cBhvr>
                                        <p:cTn id="312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03608E-006 C -0.00486 -0.01064 -0.02187 -0.02128 -0.0276 -0.02128 C -0.0651 -0.02128 -0.10364 0.14524 -0.10364 0.31175 C -0.10364 0.2278 -0.12274 0.14524 -0.14097 0.14524 C -0.16024 0.14524 -0.17847 0.22919 -0.17847 0.31175 C -0.17847 0.27035 -0.18802 0.2278 -0.19757 0.2278 C -0.20729 0.2278 -0.21684 0.2692 -0.21684 0.31175 C -0.21684 0.29047 -0.2217 0.27035 -0.22656 0.27035 C -0.23125 0.27035 -0.23611 0.29163 -0.23611 0.31175 C -0.23611 0.30111 -0.23871 0.29047 -0.24097 0.29047 C -0.24218 0.29047 -0.24566 0.30111 -0.24566 0.31175 C -0.24566 0.30643 -0.24704 0.30111 -0.24826 0.30111 C -0.24826 0.29972 -0.25069 0.30643 -0.25069 0.31175 C -0.25069 0.30897 -0.25069 0.30643 -0.25208 0.30643 C -0.25208 0.30782 -0.25329 0.30921 -0.25329 0.31175 C -0.25329 0.31036 -0.25329 0.30897 -0.25329 0.30782 C -0.25451 0.30782 -0.25451 0.30921 -0.25451 0.31059 C -0.25573 0.31059 -0.25573 0.30921 -0.25573 0.30782 C -0.25694 0.30782 -0.25694 0.30921 -0.25694 0.31059 E">
                                      <p:cBhvr>
                                        <p:cTn id="32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29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5904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39593E-006 L -0.07726 -0.03931 E">
                                      <p:cBhvr>
                                        <p:cTn id="33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23 L -0.09114 -0.13043 C -0.11024 -0.15911 -0.14184 -0.18201 -0.17725 -0.19264 C -0.21753 -0.20583 -0.30434 -0.14315 -0.33576 -0.10731 L -0.41475 0.04371 E">
                                      <p:cBhvr>
                                        <p:cTn id="336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26 -0.03931 L -0.00642 0.00278 E">
                                      <p:cBhvr>
                                        <p:cTn id="35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62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6 -0.018 -0.02131 -0.023 -0.02131 C -0.054 -0.02131 -0.086 0.1452 -0.086 0.31171 C -0.086 0.22779 -0.102 0.1452 -0.117 0.1452 C -0.133 0.1452 -0.148 0.22912 -0.148 0.31171 C -0.148 0.27041 -0.156 0.22779 -0.164 0.22779 C -0.172 0.22779 -0.18 0.26909 -0.18 0.31171 C -0.18 0.2904 -0.184 0.27041 -0.188 0.27041 C -0.192 0.27041 -0.196 0.29172 -0.196 0.31171 C -0.196 0.30105 -0.198 0.2904 -0.2 0.2904 C -0.201 0.2904 -0.204 0.30106 -0.204 0.31171 C -0.204 0.30638 -0.205 0.30105 -0.206 0.30105 C -0.206 0.29972 -0.208 0.30638 -0.208 0.31171 C -0.208 0.30905 -0.208 0.30638 -0.209 0.30638 C -0.209 0.30771 -0.21 0.30904 -0.21 0.31171 C -0.21 0.31038 -0.21 0.30905 -0.21 0.30771 C -0.211 0.30771 -0.211 0.30904 -0.211 0.31037 C -0.212 0.31037 -0.212 0.30904 -0.212 0.30771 C -0.213 0.30771 -0.213 0.30904 -0.213 0.31037 E">
                                      <p:cBhvr>
                                        <p:cTn id="369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C:\Documents and Settings\User\Рабочий стол\ТРИГГЕРЫ\Овчинникова\МК  4\3.png"/>
          <p:cNvPicPr/>
          <p:nvPr/>
        </p:nvPicPr>
        <p:blipFill>
          <a:blip r:embed="rId2"/>
          <a:stretch/>
        </p:blipFill>
        <p:spPr>
          <a:xfrm>
            <a:off x="214200" y="2941560"/>
            <a:ext cx="2286000" cy="3532320"/>
          </a:xfrm>
          <a:prstGeom prst="rect">
            <a:avLst/>
          </a:prstGeom>
          <a:ln w="0">
            <a:noFill/>
          </a:ln>
        </p:spPr>
      </p:pic>
      <p:pic>
        <p:nvPicPr>
          <p:cNvPr id="146" name="Скругленный прямоугольник 4" descr=""/>
          <p:cNvPicPr/>
          <p:nvPr/>
        </p:nvPicPr>
        <p:blipFill>
          <a:blip r:embed="rId3"/>
          <a:stretch/>
        </p:blipFill>
        <p:spPr>
          <a:xfrm>
            <a:off x="798480" y="60480"/>
            <a:ext cx="1706760" cy="993600"/>
          </a:xfrm>
          <a:prstGeom prst="rect">
            <a:avLst/>
          </a:prstGeom>
          <a:ln w="0">
            <a:noFill/>
          </a:ln>
        </p:spPr>
      </p:pic>
      <p:pic>
        <p:nvPicPr>
          <p:cNvPr id="147" name="Скругленный прямоугольник 9" descr=""/>
          <p:cNvPicPr/>
          <p:nvPr/>
        </p:nvPicPr>
        <p:blipFill>
          <a:blip r:embed="rId4"/>
          <a:stretch/>
        </p:blipFill>
        <p:spPr>
          <a:xfrm>
            <a:off x="2432160" y="171360"/>
            <a:ext cx="6804000" cy="84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Documents and Settings\User\Рабочий стол\ТРИГГЕРЫ\Овчинникова\МК  4\2.png"/>
          <p:cNvPicPr/>
          <p:nvPr/>
        </p:nvPicPr>
        <p:blipFill>
          <a:blip r:embed="rId5"/>
          <a:stretch/>
        </p:blipFill>
        <p:spPr>
          <a:xfrm>
            <a:off x="6500880" y="3714840"/>
            <a:ext cx="2374920" cy="2722320"/>
          </a:xfrm>
          <a:prstGeom prst="rect">
            <a:avLst/>
          </a:prstGeom>
          <a:ln w="0">
            <a:noFill/>
          </a:ln>
        </p:spPr>
      </p:pic>
      <p:pic>
        <p:nvPicPr>
          <p:cNvPr id="149" name="Блок-схема: процесс 7" descr=""/>
          <p:cNvPicPr/>
          <p:nvPr/>
        </p:nvPicPr>
        <p:blipFill>
          <a:blip r:embed="rId6"/>
          <a:stretch/>
        </p:blipFill>
        <p:spPr>
          <a:xfrm>
            <a:off x="4584600" y="1036800"/>
            <a:ext cx="2114640" cy="761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Documents and Settings\User\Рабочий стол\ТРИГГЕРЫ\Овчинникова\МК  4\мяч.png"/>
          <p:cNvPicPr/>
          <p:nvPr/>
        </p:nvPicPr>
        <p:blipFill>
          <a:blip r:embed="rId7"/>
          <a:stretch/>
        </p:blipFill>
        <p:spPr>
          <a:xfrm>
            <a:off x="2286000" y="4214880"/>
            <a:ext cx="795240" cy="804960"/>
          </a:xfrm>
          <a:prstGeom prst="rect">
            <a:avLst/>
          </a:prstGeom>
          <a:ln w="0">
            <a:noFill/>
          </a:ln>
        </p:spPr>
      </p:pic>
      <p:sp>
        <p:nvSpPr>
          <p:cNvPr id="151" name="Блок-схема: знак завершения 14">
            <a:hlinkClick r:id="rId8" action="ppaction://hlinksldjump"/>
          </p:cNvPr>
          <p:cNvSpPr/>
          <p:nvPr/>
        </p:nvSpPr>
        <p:spPr>
          <a:xfrm>
            <a:off x="4014720" y="6286680"/>
            <a:ext cx="1343160" cy="357120"/>
          </a:xfrm>
          <a:prstGeom prst="flowChartTerminator">
            <a:avLst/>
          </a:prstGeom>
          <a:solidFill>
            <a:srgbClr val="ffcc66"/>
          </a:solidFill>
          <a:ln w="25560">
            <a:solidFill>
              <a:srgbClr val="e46c0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апп.mp3" descr=""/>
          <p:cNvPicPr/>
          <p:nvPr/>
        </p:nvPicPr>
        <p:blipFill>
          <a:blip r:embed="rId10"/>
          <a:stretch/>
        </p:blipFill>
        <p:spPr>
          <a:xfrm>
            <a:off x="-304920" y="4000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3" descr="C:\Documents and Settings\User\Рабочий стол\ТРИГГЕРЫ\Овчинникова\МК  4\сетка.png"/>
          <p:cNvPicPr/>
          <p:nvPr/>
        </p:nvPicPr>
        <p:blipFill>
          <a:blip r:embed="rId11"/>
          <a:stretch/>
        </p:blipFill>
        <p:spPr>
          <a:xfrm>
            <a:off x="3700440" y="3060720"/>
            <a:ext cx="1596960" cy="3821040"/>
          </a:xfrm>
          <a:prstGeom prst="rect">
            <a:avLst/>
          </a:prstGeom>
          <a:ln w="0">
            <a:noFill/>
          </a:ln>
        </p:spPr>
      </p:pic>
      <p:pic>
        <p:nvPicPr>
          <p:cNvPr id="154" name="Блок-схема: процесс 8" descr=""/>
          <p:cNvPicPr/>
          <p:nvPr/>
        </p:nvPicPr>
        <p:blipFill>
          <a:blip r:embed="rId12"/>
          <a:stretch/>
        </p:blipFill>
        <p:spPr>
          <a:xfrm>
            <a:off x="6724800" y="1036800"/>
            <a:ext cx="2114280" cy="761760"/>
          </a:xfrm>
          <a:prstGeom prst="rect">
            <a:avLst/>
          </a:prstGeom>
          <a:ln w="0">
            <a:noFill/>
          </a:ln>
        </p:spPr>
      </p:pic>
      <p:pic>
        <p:nvPicPr>
          <p:cNvPr id="155" name="Блок-схема: процесс 6" descr=""/>
          <p:cNvPicPr/>
          <p:nvPr/>
        </p:nvPicPr>
        <p:blipFill>
          <a:blip r:embed="rId13"/>
          <a:stretch/>
        </p:blipFill>
        <p:spPr>
          <a:xfrm>
            <a:off x="2365200" y="1036800"/>
            <a:ext cx="2121120" cy="761760"/>
          </a:xfrm>
          <a:prstGeom prst="rect">
            <a:avLst/>
          </a:prstGeom>
          <a:ln w="0">
            <a:noFill/>
          </a:ln>
        </p:spPr>
      </p:pic>
      <p:pic>
        <p:nvPicPr>
          <p:cNvPr id="156" name="Блок-схема: процесс 5" descr=""/>
          <p:cNvPicPr/>
          <p:nvPr/>
        </p:nvPicPr>
        <p:blipFill>
          <a:blip r:embed="rId14"/>
          <a:stretch/>
        </p:blipFill>
        <p:spPr>
          <a:xfrm>
            <a:off x="225360" y="1036800"/>
            <a:ext cx="2116080" cy="761760"/>
          </a:xfrm>
          <a:prstGeom prst="rect">
            <a:avLst/>
          </a:prstGeom>
          <a:ln w="0">
            <a:noFill/>
          </a:ln>
        </p:spPr>
      </p:pic>
      <p:pic>
        <p:nvPicPr>
          <p:cNvPr id="157" name="Скругленный прямоугольник 16" descr=""/>
          <p:cNvPicPr/>
          <p:nvPr/>
        </p:nvPicPr>
        <p:blipFill>
          <a:blip r:embed="rId15"/>
          <a:stretch/>
        </p:blipFill>
        <p:spPr>
          <a:xfrm>
            <a:off x="19080" y="55440"/>
            <a:ext cx="1047600" cy="955800"/>
          </a:xfrm>
          <a:prstGeom prst="rect">
            <a:avLst/>
          </a:prstGeom>
          <a:ln w="0">
            <a:noFill/>
          </a:ln>
        </p:spPr>
      </p:pic>
      <p:grpSp>
        <p:nvGrpSpPr>
          <p:cNvPr id="158" name="Овал 18"/>
          <p:cNvGrpSpPr/>
          <p:nvPr/>
        </p:nvGrpSpPr>
        <p:grpSpPr>
          <a:xfrm>
            <a:off x="55440" y="1841400"/>
            <a:ext cx="596880" cy="596880"/>
            <a:chOff x="55440" y="1841400"/>
            <a:chExt cx="596880" cy="596880"/>
          </a:xfrm>
        </p:grpSpPr>
        <p:pic>
          <p:nvPicPr>
            <p:cNvPr id="159" name="Овал 18" descr=""/>
            <p:cNvPicPr/>
            <p:nvPr/>
          </p:nvPicPr>
          <p:blipFill>
            <a:blip r:embed="rId16"/>
            <a:stretch/>
          </p:blipFill>
          <p:spPr>
            <a:xfrm>
              <a:off x="55440" y="184140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55600" y="20415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Овал 19"/>
          <p:cNvGrpSpPr/>
          <p:nvPr/>
        </p:nvGrpSpPr>
        <p:grpSpPr>
          <a:xfrm>
            <a:off x="55440" y="2341440"/>
            <a:ext cx="596880" cy="596880"/>
            <a:chOff x="55440" y="2341440"/>
            <a:chExt cx="596880" cy="596880"/>
          </a:xfrm>
        </p:grpSpPr>
        <p:pic>
          <p:nvPicPr>
            <p:cNvPr id="162" name="Овал 19" descr=""/>
            <p:cNvPicPr/>
            <p:nvPr/>
          </p:nvPicPr>
          <p:blipFill>
            <a:blip r:embed="rId17"/>
            <a:stretch/>
          </p:blipFill>
          <p:spPr>
            <a:xfrm>
              <a:off x="55440" y="234144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55600" y="25416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Овал 20"/>
          <p:cNvGrpSpPr/>
          <p:nvPr/>
        </p:nvGrpSpPr>
        <p:grpSpPr>
          <a:xfrm>
            <a:off x="55440" y="2914560"/>
            <a:ext cx="596880" cy="596880"/>
            <a:chOff x="55440" y="2914560"/>
            <a:chExt cx="596880" cy="596880"/>
          </a:xfrm>
        </p:grpSpPr>
        <p:pic>
          <p:nvPicPr>
            <p:cNvPr id="165" name="Овал 20" descr=""/>
            <p:cNvPicPr/>
            <p:nvPr/>
          </p:nvPicPr>
          <p:blipFill>
            <a:blip r:embed="rId18"/>
            <a:stretch/>
          </p:blipFill>
          <p:spPr>
            <a:xfrm>
              <a:off x="55440" y="291456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55600" y="31129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3" dur="indefinite" restart="never" nodeType="tmRoot">
          <p:childTnLst>
            <p:seq>
              <p:cTn id="37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75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1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014E-007 C 0.00295 -0.00648 0.01337 -0.01295 0.01702 -0.01295 C 0.04028 -0.01295 0.06407 0.0895 0.06407 0.19195 C 0.06407 0.14015 0.07604 0.0895 0.08733 0.0895 C 0.09931 0.0895 0.11059 0.14107 0.11059 0.19195 C 0.11059 0.16628 0.1165 0.14015 0.1224 0.14015 C 0.12848 0.14015 0.13438 0.16559 0.13438 0.19195 C 0.13438 0.17877 0.13733 0.16628 0.14028 0.16628 C 0.14341 0.16628 0.14636 0.17946 0.14636 0.19195 C 0.14636 0.18524 0.14792 0.17877 0.14931 0.17877 C 0.15 0.17877 0.15226 0.18524 0.15226 0.19195 C 0.15226 0.18848 0.15313 0.18524 0.15382 0.18524 C 0.15382 0.18617 0.15538 0.18848 0.15538 0.19195 C 0.15538 0.1901 0.15538 0.18848 0.15625 0.18848 C 0.15625 0.18941 0.15695 0.19033 0.15695 0.19195 C 0.15695 0.19103 0.15695 0.1901 0.15695 0.18941 C 0.15782 0.18941 0.15782 0.19033 0.15782 0.19103 C 0.15851 0.19103 0.15851 0.19033 0.15851 0.18941 C 0.15938 0.18941 0.15938 0.19033 0.15938 0.19103 E">
                                      <p:cBhvr>
                                        <p:cTn id="405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10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3" dur="590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32192E-006 L 0.06805 -0.02891 E">
                                      <p:cBhvr>
                                        <p:cTn id="41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1249 L 0.09549 -0.16259 C 0.11441 -0.19589 0.14584 -0.21809 0.18004 -0.22433 C 0.21927 -0.2315 0.25226 -0.22086 0.27726 -0.19543 L 0.39584 -0.08349 E">
                                      <p:cBhvr>
                                        <p:cTn id="417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 -0.03423 L 2.5E-006 4.75486E-006 E">
                                      <p:cBhvr>
                                        <p:cTn id="419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1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5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3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43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833 C 0.004 -0.01481 0.01806 -0.02128 0.02292 -0.02128 C 0.054 -0.02128 0.08594 0.08117 0.08594 0.18362 C 0.08594 0.13182 0.10191 0.08117 0.11702 0.08117 C 0.13299 0.08117 0.14809 0.13274 0.14809 0.18362 C 0.14809 0.15795 0.15608 0.13182 0.16407 0.13182 C 0.17205 0.13182 0.18004 0.15726 0.18004 0.18362 C 0.18004 0.17044 0.18403 0.15795 0.18802 0.15795 C 0.19202 0.15795 0.19601 0.17113 0.19601 0.18362 C 0.19601 0.17691 0.19809 0.17044 0.2 0.17044 C 0.20104 0.17044 0.204 0.17691 0.204 0.18362 C 0.204 0.18015 0.20504 0.17691 0.20608 0.17691 C 0.20608 0.17784 0.20816 0.18015 0.20816 0.18362 C 0.20816 0.18177 0.20816 0.18015 0.2092 0.18015 C 0.2092 0.18108 0.21025 0.182 0.21025 0.18362 C 0.21025 0.1827 0.21025 0.18177 0.21025 0.18108 C 0.21129 0.18108 0.21129 0.182 0.21129 0.1827 C 0.21233 0.1827 0.21233 0.182 0.21233 0.18108 C 0.21337 0.18108 0.21337 0.182 0.21337 0.1827 E">
                                      <p:cBhvr>
                                        <p:cTn id="45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55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625 C 0.004 -0.01388 0.01806 -0.02128 0.02292 -0.02128 C 0.054 -0.02128 0.08594 0.0969 0.08594 0.21507 C 0.08594 0.15541 0.10191 0.0969 0.11702 0.0969 C 0.13299 0.0969 0.14809 0.15633 0.14809 0.21507 C 0.14809 0.18547 0.15608 0.15541 0.16407 0.15541 C 0.17205 0.15541 0.18004 0.18478 0.18004 0.21507 C 0.18004 0.19981 0.18403 0.18547 0.18802 0.18547 C 0.19202 0.18547 0.19601 0.20074 0.19601 0.21507 C 0.19601 0.20744 0.19809 0.19981 0.2 0.19981 C 0.20104 0.19981 0.204 0.20744 0.204 0.21507 C 0.204 0.21114 0.20504 0.20744 0.20608 0.20744 C 0.20608 0.20837 0.20816 0.21114 0.20816 0.21507 C 0.20816 0.21299 0.20816 0.21114 0.2092 0.21114 C 0.2092 0.21207 0.21025 0.21322 0.21025 0.21507 C 0.21025 0.21392 0.21025 0.21299 0.21025 0.21207 C 0.21129 0.21207 0.21129 0.21322 0.21129 0.21415 C 0.21233 0.21415 0.21233 0.21322 0.21233 0.21207 C 0.21337 0.21207 0.21337 0.21322 0.21337 0.21415 E">
                                      <p:cBhvr>
                                        <p:cTn id="46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C:\Documents and Settings\User\Рабочий стол\ТРИГГЕРЫ\Овчинникова\МК  4\3.png"/>
          <p:cNvPicPr/>
          <p:nvPr/>
        </p:nvPicPr>
        <p:blipFill>
          <a:blip r:embed="rId2"/>
          <a:stretch/>
        </p:blipFill>
        <p:spPr>
          <a:xfrm>
            <a:off x="214200" y="2941560"/>
            <a:ext cx="2286000" cy="3532320"/>
          </a:xfrm>
          <a:prstGeom prst="rect">
            <a:avLst/>
          </a:prstGeom>
          <a:ln w="0">
            <a:noFill/>
          </a:ln>
        </p:spPr>
      </p:pic>
      <p:pic>
        <p:nvPicPr>
          <p:cNvPr id="168" name="Скругленный прямоугольник 4" descr=""/>
          <p:cNvPicPr/>
          <p:nvPr/>
        </p:nvPicPr>
        <p:blipFill>
          <a:blip r:embed="rId3"/>
          <a:stretch/>
        </p:blipFill>
        <p:spPr>
          <a:xfrm>
            <a:off x="798480" y="60480"/>
            <a:ext cx="1706760" cy="993600"/>
          </a:xfrm>
          <a:prstGeom prst="rect">
            <a:avLst/>
          </a:prstGeom>
          <a:ln w="0">
            <a:noFill/>
          </a:ln>
        </p:spPr>
      </p:pic>
      <p:pic>
        <p:nvPicPr>
          <p:cNvPr id="169" name="Скругленный прямоугольник 9" descr=""/>
          <p:cNvPicPr/>
          <p:nvPr/>
        </p:nvPicPr>
        <p:blipFill>
          <a:blip r:embed="rId4"/>
          <a:stretch/>
        </p:blipFill>
        <p:spPr>
          <a:xfrm>
            <a:off x="2432160" y="171360"/>
            <a:ext cx="6804000" cy="846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Documents and Settings\User\Рабочий стол\ТРИГГЕРЫ\Овчинникова\МК  4\2.png"/>
          <p:cNvPicPr/>
          <p:nvPr/>
        </p:nvPicPr>
        <p:blipFill>
          <a:blip r:embed="rId5"/>
          <a:stretch/>
        </p:blipFill>
        <p:spPr>
          <a:xfrm>
            <a:off x="6500880" y="3714840"/>
            <a:ext cx="2374920" cy="2722320"/>
          </a:xfrm>
          <a:prstGeom prst="rect">
            <a:avLst/>
          </a:prstGeom>
          <a:ln w="0">
            <a:noFill/>
          </a:ln>
        </p:spPr>
      </p:pic>
      <p:pic>
        <p:nvPicPr>
          <p:cNvPr id="171" name="Блок-схема: процесс 7" descr=""/>
          <p:cNvPicPr/>
          <p:nvPr/>
        </p:nvPicPr>
        <p:blipFill>
          <a:blip r:embed="rId6"/>
          <a:stretch/>
        </p:blipFill>
        <p:spPr>
          <a:xfrm>
            <a:off x="4584600" y="1036800"/>
            <a:ext cx="2114640" cy="761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Documents and Settings\User\Рабочий стол\ТРИГГЕРЫ\Овчинникова\МК  4\мяч.png"/>
          <p:cNvPicPr/>
          <p:nvPr/>
        </p:nvPicPr>
        <p:blipFill>
          <a:blip r:embed="rId7"/>
          <a:stretch/>
        </p:blipFill>
        <p:spPr>
          <a:xfrm>
            <a:off x="2286000" y="4214880"/>
            <a:ext cx="795240" cy="804960"/>
          </a:xfrm>
          <a:prstGeom prst="rect">
            <a:avLst/>
          </a:prstGeom>
          <a:ln w="0">
            <a:noFill/>
          </a:ln>
        </p:spPr>
      </p:pic>
      <p:sp>
        <p:nvSpPr>
          <p:cNvPr id="173" name="Блок-схема: знак завершения 14">
            <a:hlinkClick r:id="rId8" action="ppaction://hlinksldjump"/>
          </p:cNvPr>
          <p:cNvSpPr/>
          <p:nvPr/>
        </p:nvSpPr>
        <p:spPr>
          <a:xfrm>
            <a:off x="4014720" y="6286680"/>
            <a:ext cx="1343160" cy="357120"/>
          </a:xfrm>
          <a:prstGeom prst="flowChartTerminator">
            <a:avLst/>
          </a:prstGeom>
          <a:solidFill>
            <a:srgbClr val="ffcc66"/>
          </a:solidFill>
          <a:ln w="25560">
            <a:solidFill>
              <a:srgbClr val="e46c0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апп.mp3" descr=""/>
          <p:cNvPicPr/>
          <p:nvPr/>
        </p:nvPicPr>
        <p:blipFill>
          <a:blip r:embed="rId10"/>
          <a:stretch/>
        </p:blipFill>
        <p:spPr>
          <a:xfrm>
            <a:off x="-304920" y="4000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3" descr="C:\Documents and Settings\User\Рабочий стол\ТРИГГЕРЫ\Овчинникова\МК  4\сетка.png"/>
          <p:cNvPicPr/>
          <p:nvPr/>
        </p:nvPicPr>
        <p:blipFill>
          <a:blip r:embed="rId11"/>
          <a:stretch/>
        </p:blipFill>
        <p:spPr>
          <a:xfrm>
            <a:off x="3700440" y="3060720"/>
            <a:ext cx="1596960" cy="3821040"/>
          </a:xfrm>
          <a:prstGeom prst="rect">
            <a:avLst/>
          </a:prstGeom>
          <a:ln w="0">
            <a:noFill/>
          </a:ln>
        </p:spPr>
      </p:pic>
      <p:pic>
        <p:nvPicPr>
          <p:cNvPr id="176" name="Блок-схема: процесс 8" descr=""/>
          <p:cNvPicPr/>
          <p:nvPr/>
        </p:nvPicPr>
        <p:blipFill>
          <a:blip r:embed="rId12"/>
          <a:stretch/>
        </p:blipFill>
        <p:spPr>
          <a:xfrm>
            <a:off x="6724800" y="1036800"/>
            <a:ext cx="2114280" cy="761760"/>
          </a:xfrm>
          <a:prstGeom prst="rect">
            <a:avLst/>
          </a:prstGeom>
          <a:ln w="0">
            <a:noFill/>
          </a:ln>
        </p:spPr>
      </p:pic>
      <p:pic>
        <p:nvPicPr>
          <p:cNvPr id="177" name="Блок-схема: процесс 6" descr=""/>
          <p:cNvPicPr/>
          <p:nvPr/>
        </p:nvPicPr>
        <p:blipFill>
          <a:blip r:embed="rId13"/>
          <a:stretch/>
        </p:blipFill>
        <p:spPr>
          <a:xfrm>
            <a:off x="2365200" y="1036800"/>
            <a:ext cx="2121120" cy="761760"/>
          </a:xfrm>
          <a:prstGeom prst="rect">
            <a:avLst/>
          </a:prstGeom>
          <a:ln w="0">
            <a:noFill/>
          </a:ln>
        </p:spPr>
      </p:pic>
      <p:pic>
        <p:nvPicPr>
          <p:cNvPr id="178" name="Блок-схема: процесс 5" descr=""/>
          <p:cNvPicPr/>
          <p:nvPr/>
        </p:nvPicPr>
        <p:blipFill>
          <a:blip r:embed="rId14"/>
          <a:stretch/>
        </p:blipFill>
        <p:spPr>
          <a:xfrm>
            <a:off x="225360" y="1036800"/>
            <a:ext cx="2116080" cy="761760"/>
          </a:xfrm>
          <a:prstGeom prst="rect">
            <a:avLst/>
          </a:prstGeom>
          <a:ln w="0">
            <a:noFill/>
          </a:ln>
        </p:spPr>
      </p:pic>
      <p:pic>
        <p:nvPicPr>
          <p:cNvPr id="179" name="Скругленный прямоугольник 16" descr=""/>
          <p:cNvPicPr/>
          <p:nvPr/>
        </p:nvPicPr>
        <p:blipFill>
          <a:blip r:embed="rId15"/>
          <a:stretch/>
        </p:blipFill>
        <p:spPr>
          <a:xfrm>
            <a:off x="19080" y="55440"/>
            <a:ext cx="1047600" cy="955800"/>
          </a:xfrm>
          <a:prstGeom prst="rect">
            <a:avLst/>
          </a:prstGeom>
          <a:ln w="0">
            <a:noFill/>
          </a:ln>
        </p:spPr>
      </p:pic>
      <p:grpSp>
        <p:nvGrpSpPr>
          <p:cNvPr id="180" name="Овал 18"/>
          <p:cNvGrpSpPr/>
          <p:nvPr/>
        </p:nvGrpSpPr>
        <p:grpSpPr>
          <a:xfrm>
            <a:off x="55440" y="1841400"/>
            <a:ext cx="596880" cy="596880"/>
            <a:chOff x="55440" y="1841400"/>
            <a:chExt cx="596880" cy="596880"/>
          </a:xfrm>
        </p:grpSpPr>
        <p:pic>
          <p:nvPicPr>
            <p:cNvPr id="181" name="Овал 18" descr=""/>
            <p:cNvPicPr/>
            <p:nvPr/>
          </p:nvPicPr>
          <p:blipFill>
            <a:blip r:embed="rId16"/>
            <a:stretch/>
          </p:blipFill>
          <p:spPr>
            <a:xfrm>
              <a:off x="55440" y="184140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55600" y="20415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Овал 19"/>
          <p:cNvGrpSpPr/>
          <p:nvPr/>
        </p:nvGrpSpPr>
        <p:grpSpPr>
          <a:xfrm>
            <a:off x="55440" y="2341440"/>
            <a:ext cx="596880" cy="596880"/>
            <a:chOff x="55440" y="2341440"/>
            <a:chExt cx="596880" cy="596880"/>
          </a:xfrm>
        </p:grpSpPr>
        <p:pic>
          <p:nvPicPr>
            <p:cNvPr id="184" name="Овал 19" descr=""/>
            <p:cNvPicPr/>
            <p:nvPr/>
          </p:nvPicPr>
          <p:blipFill>
            <a:blip r:embed="rId17"/>
            <a:stretch/>
          </p:blipFill>
          <p:spPr>
            <a:xfrm>
              <a:off x="55440" y="234144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55600" y="25416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Овал 20"/>
          <p:cNvGrpSpPr/>
          <p:nvPr/>
        </p:nvGrpSpPr>
        <p:grpSpPr>
          <a:xfrm>
            <a:off x="55440" y="2914560"/>
            <a:ext cx="596880" cy="596880"/>
            <a:chOff x="55440" y="2914560"/>
            <a:chExt cx="596880" cy="596880"/>
          </a:xfrm>
        </p:grpSpPr>
        <p:pic>
          <p:nvPicPr>
            <p:cNvPr id="187" name="Овал 20" descr=""/>
            <p:cNvPicPr/>
            <p:nvPr/>
          </p:nvPicPr>
          <p:blipFill>
            <a:blip r:embed="rId18"/>
            <a:stretch/>
          </p:blipFill>
          <p:spPr>
            <a:xfrm>
              <a:off x="55440" y="291456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55600" y="31129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6" dur="indefinite" restart="never" nodeType="tmRoot">
          <p:childTnLst>
            <p:seq>
              <p:cTn id="467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68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91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014E-007 C 0.00295 -0.00648 0.01337 -0.01295 0.01702 -0.01295 C 0.04028 -0.01295 0.06407 0.0895 0.06407 0.19195 C 0.06407 0.14015 0.07604 0.0895 0.08733 0.0895 C 0.09931 0.0895 0.11059 0.14107 0.11059 0.19195 C 0.11059 0.16628 0.1165 0.14015 0.1224 0.14015 C 0.12848 0.14015 0.13438 0.16559 0.13438 0.19195 C 0.13438 0.17877 0.13733 0.16628 0.14028 0.16628 C 0.14341 0.16628 0.14636 0.17946 0.14636 0.19195 C 0.14636 0.18524 0.14792 0.17877 0.14931 0.17877 C 0.15 0.17877 0.15226 0.18524 0.15226 0.19195 C 0.15226 0.18848 0.15313 0.18524 0.15382 0.18524 C 0.15382 0.18617 0.15538 0.18848 0.15538 0.19195 C 0.15538 0.1901 0.15538 0.18848 0.15625 0.18848 C 0.15625 0.18941 0.15695 0.19033 0.15695 0.19195 C 0.15695 0.19103 0.15695 0.1901 0.15695 0.18941 C 0.15782 0.18941 0.15782 0.19033 0.15782 0.19103 C 0.15851 0.19103 0.15851 0.19033 0.15851 0.18941 C 0.15938 0.18941 0.15938 0.19033 0.15938 0.19103 E">
                                      <p:cBhvr>
                                        <p:cTn id="49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03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6" dur="5904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32192E-006 L 0.06805 -0.02891 E">
                                      <p:cBhvr>
                                        <p:cTn id="508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1249 L 0.09549 -0.16259 C 0.11441 -0.19589 0.14584 -0.21809 0.18004 -0.22433 C 0.21927 -0.2315 0.25226 -0.22086 0.27726 -0.19543 L 0.39584 -0.08349 E">
                                      <p:cBhvr>
                                        <p:cTn id="51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 -0.03423 L 2.5E-006 4.75486E-006 E">
                                      <p:cBhvr>
                                        <p:cTn id="51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4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2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833 C 0.004 -0.01481 0.01806 -0.02128 0.02292 -0.02128 C 0.054 -0.02128 0.08594 0.08117 0.08594 0.18362 C 0.08594 0.13182 0.10191 0.08117 0.11702 0.08117 C 0.13299 0.08117 0.14809 0.13274 0.14809 0.18362 C 0.14809 0.15795 0.15608 0.13182 0.16407 0.13182 C 0.17205 0.13182 0.18004 0.15726 0.18004 0.18362 C 0.18004 0.17044 0.18403 0.15795 0.18802 0.15795 C 0.19202 0.15795 0.19601 0.17113 0.19601 0.18362 C 0.19601 0.17691 0.19809 0.17044 0.2 0.17044 C 0.20104 0.17044 0.204 0.17691 0.204 0.18362 C 0.204 0.18015 0.20504 0.17691 0.20608 0.17691 C 0.20608 0.17784 0.20816 0.18015 0.20816 0.18362 C 0.20816 0.18177 0.20816 0.18015 0.2092 0.18015 C 0.2092 0.18108 0.21025 0.182 0.21025 0.18362 C 0.21025 0.1827 0.21025 0.18177 0.21025 0.18108 C 0.21129 0.18108 0.21129 0.182 0.21129 0.1827 C 0.21233 0.1827 0.21233 0.182 0.21233 0.18108 C 0.21337 0.18108 0.21337 0.182 0.21337 0.1827 E">
                                      <p:cBhvr>
                                        <p:cTn id="543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48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625 C 0.004 -0.01388 0.01806 -0.02128 0.02292 -0.02128 C 0.054 -0.02128 0.08594 0.0969 0.08594 0.21507 C 0.08594 0.15541 0.10191 0.0969 0.11702 0.0969 C 0.13299 0.0969 0.14809 0.15633 0.14809 0.21507 C 0.14809 0.18547 0.15608 0.15541 0.16407 0.15541 C 0.17205 0.15541 0.18004 0.18478 0.18004 0.21507 C 0.18004 0.19981 0.18403 0.18547 0.18802 0.18547 C 0.19202 0.18547 0.19601 0.20074 0.19601 0.21507 C 0.19601 0.20744 0.19809 0.19981 0.2 0.19981 C 0.20104 0.19981 0.204 0.20744 0.204 0.21507 C 0.204 0.21114 0.20504 0.20744 0.20608 0.20744 C 0.20608 0.20837 0.20816 0.21114 0.20816 0.21507 C 0.20816 0.21299 0.20816 0.21114 0.2092 0.21114 C 0.2092 0.21207 0.21025 0.21322 0.21025 0.21507 C 0.21025 0.21392 0.21025 0.21299 0.21025 0.21207 C 0.21129 0.21207 0.21129 0.21322 0.21129 0.21415 C 0.21233 0.21415 0.21233 0.21322 0.21233 0.21207 C 0.21337 0.21207 0.21337 0.21322 0.21337 0.21415 E">
                                      <p:cBhvr>
                                        <p:cTn id="555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5:44:54Z</dcterms:created>
  <dc:creator>SamLab.ws</dc:creator>
  <dc:description/>
  <dc:language>en-US</dc:language>
  <cp:lastModifiedBy>Борис</cp:lastModifiedBy>
  <dcterms:modified xsi:type="dcterms:W3CDTF">2014-11-23T09:38:52Z</dcterms:modified>
  <cp:revision>19</cp:revision>
  <dc:subject/>
  <dc:title>Слайд 1</dc:title>
</cp:coreProperties>
</file>